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9.wmf" ContentType="image/x-wmf"/>
  <Override PartName="/ppt/media/image40.png" ContentType="image/png"/>
  <Override PartName="/ppt/media/image38.wmf" ContentType="image/x-wmf"/>
  <Override PartName="/ppt/media/image31.wmf" ContentType="image/x-wmf"/>
  <Override PartName="/ppt/media/image74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10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8.jpeg" ContentType="image/jpe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12.png" ContentType="image/png"/>
  <Override PartName="/ppt/media/image49.png" ContentType="image/png"/>
  <Override PartName="/ppt/media/image23.jpeg" ContentType="image/jpeg"/>
  <Override PartName="/ppt/media/image85.png" ContentType="image/png"/>
  <Override PartName="/ppt/media/image28.wmf" ContentType="image/x-wmf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86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78.png" ContentType="image/png"/>
  <Override PartName="/ppt/media/image66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29.wmf" ContentType="image/x-wmf"/>
  <Override PartName="/ppt/media/image15.jpeg" ContentType="image/jpeg"/>
  <Override PartName="/ppt/media/image67.wmf" ContentType="image/x-wmf"/>
  <Override PartName="/ppt/media/image27.png" ContentType="image/png"/>
  <Override PartName="/ppt/media/image33.jpeg" ContentType="image/jpeg"/>
  <Override PartName="/ppt/media/image14.jpeg" ContentType="image/jpeg"/>
  <Override PartName="/ppt/media/image54.png" ContentType="image/png"/>
  <Override PartName="/ppt/media/image24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80.png" ContentType="image/png"/>
  <Override PartName="/ppt/media/image3.png" ContentType="image/png"/>
  <Override PartName="/ppt/media/image30.wmf" ContentType="image/x-wmf"/>
  <Override PartName="/ppt/media/image73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84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6.bin" ContentType="application/vnd.openxmlformats-officedocument.oleObject"/>
  <Override PartName="/ppt/embeddings/oleObject13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c70b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4CB61C-8DA3-483A-BB29-ABE417C2C2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B6A8C1-5C8F-45EC-A28F-08A3DA8A5B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EBAE-581A-4A7C-82AC-1587F8F20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20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3B59-F628-44C9-92C7-F1139D2CF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200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5C27-A47E-4B0C-939D-C17F34117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760" y="15238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4680" y="15238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20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760" y="39520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4680" y="39520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A020-31F6-4447-9A64-548507A14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240" y="112680"/>
            <a:ext cx="67057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9978-CA0A-4179-989D-314877FB7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200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20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520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200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760" y="15238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4680" y="15238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520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760" y="39520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4680" y="39520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7C9F-C6C3-43D6-B150-7EAC0F613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0741-9780-44BE-8A3E-BCC9244E9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612B-3510-49B3-97AB-46524CD52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112680"/>
            <a:ext cx="67057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D0DB-60C1-483E-9268-E9863051F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ECD1-BF56-437C-BD4F-DFDB58C43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2000" y="39520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167D-3B09-43A3-B942-A19D0495B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5238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20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D67F-2547-4BA1-B9E9-591C548A8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714" t="0" r="3929" b="66676"/>
          <a:stretch/>
        </p:blipFill>
        <p:spPr>
          <a:xfrm>
            <a:off x="-7920" y="6270480"/>
            <a:ext cx="9155160" cy="625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rcRect l="0" t="7274" r="4286" b="0"/>
          <a:stretch/>
        </p:blipFill>
        <p:spPr>
          <a:xfrm>
            <a:off x="-14400" y="-15840"/>
            <a:ext cx="9188640" cy="17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2742840" y="629604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c70b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70b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7010280" y="6296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c70b6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8CA8-38A2-4CEE-B10E-DAE0315419A7}" type="slidenum">
              <a:rPr b="0" lang="ar-SA" sz="1200" spc="-1" strike="noStrike">
                <a:solidFill>
                  <a:srgbClr val="3c70b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76680" y="6705720"/>
            <a:ext cx="262692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600" spc="-1" strike="noStrike">
                <a:solidFill>
                  <a:srgbClr val="3c70b6"/>
                </a:solidFill>
                <a:latin typeface="Arial"/>
              </a:rPr>
              <a:t>©2005 Check Point Software Technologies Ltd. Proprietary &amp; Confident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127080"/>
            <a:ext cx="1067040" cy="919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38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938"/>
              </a:spcBef>
              <a:buClr>
                <a:srgbClr val="4c80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938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938"/>
              </a:spcBef>
              <a:buClr>
                <a:srgbClr val="4c80c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938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938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8186760" y="299880"/>
            <a:ext cx="804960" cy="7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d2d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152280" y="63244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c70b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7AA-E2B6-444B-B240-D1F1DBB07BF0}" type="datetime3">
              <a:rPr b="0" lang="en-US" sz="1200" spc="-1" strike="noStrike">
                <a:solidFill>
                  <a:srgbClr val="3c70b6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40560" y="5410080"/>
            <a:ext cx="1069920" cy="970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c70b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c70b6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rcRect l="0" t="0" r="3929" b="0"/>
          <a:stretch/>
        </p:blipFill>
        <p:spPr>
          <a:xfrm>
            <a:off x="-33480" y="0"/>
            <a:ext cx="9220320" cy="1884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127080"/>
            <a:ext cx="1447920" cy="1247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2742840" y="629604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c70b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70b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76680" y="6705720"/>
            <a:ext cx="262692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600" spc="-1" strike="noStrike">
                <a:solidFill>
                  <a:srgbClr val="3c70b6"/>
                </a:solidFill>
                <a:latin typeface="Arial"/>
              </a:rPr>
              <a:t>©2005 Check Point Software Technologies Ltd. Proprietary &amp; Confident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70b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3c70b6"/>
              </a:solidFill>
              <a:latin typeface="Arial"/>
            </a:endParaRPr>
          </a:p>
          <a:p>
            <a:pPr lvl="1" marL="457200" indent="0"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4c80c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374"/>
              </a:spcBef>
              <a:buClr>
                <a:srgbClr val="4c80c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52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0.png"/><Relationship Id="rId18" Type="http://schemas.openxmlformats.org/officeDocument/2006/relationships/image" Target="../media/image11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2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5.png"/><Relationship Id="rId15" Type="http://schemas.openxmlformats.org/officeDocument/2006/relationships/image" Target="../media/image7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7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1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73.png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78.png"/><Relationship Id="rId24" Type="http://schemas.openxmlformats.org/officeDocument/2006/relationships/image" Target="../media/image79.png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0.png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1.png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81.png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72.png"/><Relationship Id="rId33" Type="http://schemas.openxmlformats.org/officeDocument/2006/relationships/oleObject" Target="../embeddings/oleObject14.bin"/><Relationship Id="rId34" Type="http://schemas.openxmlformats.org/officeDocument/2006/relationships/image" Target="../media/image81.png"/><Relationship Id="rId35" Type="http://schemas.openxmlformats.org/officeDocument/2006/relationships/oleObject" Target="../embeddings/oleObject15.bin"/><Relationship Id="rId36" Type="http://schemas.openxmlformats.org/officeDocument/2006/relationships/image" Target="../media/image81.png"/><Relationship Id="rId37" Type="http://schemas.openxmlformats.org/officeDocument/2006/relationships/oleObject" Target="../embeddings/oleObject16.bin"/><Relationship Id="rId38" Type="http://schemas.openxmlformats.org/officeDocument/2006/relationships/image" Target="../media/image72.png"/><Relationship Id="rId39" Type="http://schemas.openxmlformats.org/officeDocument/2006/relationships/oleObject" Target="../embeddings/oleObject17.bin"/><Relationship Id="rId40" Type="http://schemas.openxmlformats.org/officeDocument/2006/relationships/image" Target="../media/image81.png"/><Relationship Id="rId41" Type="http://schemas.openxmlformats.org/officeDocument/2006/relationships/oleObject" Target="../embeddings/oleObject18.bin"/><Relationship Id="rId42" Type="http://schemas.openxmlformats.org/officeDocument/2006/relationships/image" Target="../media/image81.png"/><Relationship Id="rId43" Type="http://schemas.openxmlformats.org/officeDocument/2006/relationships/oleObject" Target="../embeddings/oleObject19.bin"/><Relationship Id="rId44" Type="http://schemas.openxmlformats.org/officeDocument/2006/relationships/image" Target="../media/image72.png"/><Relationship Id="rId45" Type="http://schemas.openxmlformats.org/officeDocument/2006/relationships/oleObject" Target="../embeddings/oleObject20.bin"/><Relationship Id="rId46" Type="http://schemas.openxmlformats.org/officeDocument/2006/relationships/image" Target="../media/image81.png"/><Relationship Id="rId47" Type="http://schemas.openxmlformats.org/officeDocument/2006/relationships/oleObject" Target="../embeddings/oleObject21.bin"/><Relationship Id="rId48" Type="http://schemas.openxmlformats.org/officeDocument/2006/relationships/image" Target="../media/image81.png"/><Relationship Id="rId49" Type="http://schemas.openxmlformats.org/officeDocument/2006/relationships/oleObject" Target="../embeddings/oleObject22.bin"/><Relationship Id="rId50" Type="http://schemas.openxmlformats.org/officeDocument/2006/relationships/image" Target="../media/image72.png"/><Relationship Id="rId51" Type="http://schemas.openxmlformats.org/officeDocument/2006/relationships/oleObject" Target="../embeddings/oleObject23.bin"/><Relationship Id="rId52" Type="http://schemas.openxmlformats.org/officeDocument/2006/relationships/image" Target="../media/image81.png"/><Relationship Id="rId53" Type="http://schemas.openxmlformats.org/officeDocument/2006/relationships/oleObject" Target="../embeddings/oleObject24.bin"/><Relationship Id="rId54" Type="http://schemas.openxmlformats.org/officeDocument/2006/relationships/image" Target="../media/image81.png"/><Relationship Id="rId55" Type="http://schemas.openxmlformats.org/officeDocument/2006/relationships/oleObject" Target="../embeddings/oleObject25.bin"/><Relationship Id="rId56" Type="http://schemas.openxmlformats.org/officeDocument/2006/relationships/image" Target="../media/image72.png"/><Relationship Id="rId57" Type="http://schemas.openxmlformats.org/officeDocument/2006/relationships/oleObject" Target="../embeddings/oleObject26.bin"/><Relationship Id="rId58" Type="http://schemas.openxmlformats.org/officeDocument/2006/relationships/image" Target="../media/image50.png"/><Relationship Id="rId59" Type="http://schemas.openxmlformats.org/officeDocument/2006/relationships/slideLayout" Target="../slideLayouts/slideLayout5.xml"/><Relationship Id="rId6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6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70b6"/>
                </a:solidFill>
                <a:latin typeface="Arial"/>
              </a:rPr>
              <a:t>Комплексный подход </a:t>
            </a:r>
            <a:r>
              <a:rPr b="1" lang="en-US" sz="3200" spc="-1" strike="noStrike">
                <a:solidFill>
                  <a:srgbClr val="3c70b6"/>
                </a:solidFill>
                <a:latin typeface="Arial"/>
              </a:rPr>
              <a:t>Check Point </a:t>
            </a:r>
            <a:r>
              <a:rPr b="1" lang="ru-RU" sz="3200" spc="-1" strike="noStrike">
                <a:solidFill>
                  <a:srgbClr val="3c70b6"/>
                </a:solidFill>
                <a:latin typeface="Arial"/>
              </a:rPr>
              <a:t>к защите информационных ресурсов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c70b6"/>
                </a:solidFill>
                <a:latin typeface="Arial"/>
              </a:rPr>
              <a:t>Unified Threat Management</a:t>
            </a:r>
            <a:endParaRPr b="1" lang="en-US" sz="32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47239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70b6"/>
                </a:solidFill>
                <a:latin typeface="Arial"/>
              </a:rPr>
              <a:t>Антон Разумов</a:t>
            </a:r>
            <a:endParaRPr b="1" lang="en-US" sz="2000" spc="-1" strike="noStrike">
              <a:solidFill>
                <a:srgbClr val="3c70b6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70b6"/>
                </a:solidFill>
                <a:latin typeface="Arial"/>
              </a:rPr>
              <a:t>Check Point </a:t>
            </a:r>
            <a:r>
              <a:rPr b="1" lang="en-US" sz="2000" spc="-1" strike="noStrike">
                <a:solidFill>
                  <a:srgbClr val="3c70b6"/>
                </a:solidFill>
                <a:latin typeface="Arial"/>
              </a:rPr>
              <a:t>Software</a:t>
            </a:r>
            <a:r>
              <a:rPr b="1" lang="ru-RU" sz="2000" spc="-1" strike="noStrike">
                <a:solidFill>
                  <a:srgbClr val="3c70b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c70b6"/>
                </a:solidFill>
                <a:latin typeface="Arial"/>
              </a:rPr>
              <a:t>Technologies</a:t>
            </a:r>
            <a:endParaRPr b="1" lang="en-US" sz="2000" spc="-1" strike="noStrike">
              <a:solidFill>
                <a:srgbClr val="3c70b6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70b6"/>
                </a:solidFill>
                <a:latin typeface="Arial"/>
              </a:rPr>
              <a:t>Консультант по безопасности</a:t>
            </a:r>
            <a:endParaRPr b="1" lang="en-US" sz="2000" spc="-1" strike="noStrike">
              <a:solidFill>
                <a:srgbClr val="3c70b6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70b6"/>
                </a:solidFill>
                <a:latin typeface="Arial"/>
              </a:rPr>
              <a:t>arazumov@checkpoint.com</a:t>
            </a:r>
            <a:endParaRPr b="1" lang="en-US" sz="2000" spc="-1" strike="noStrike">
              <a:solidFill>
                <a:srgbClr val="3c70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29EC9-0D52-491B-8A2F-4B85F7C66A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ребования рынка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решений безопасности «все в одном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all-in-one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all-in-one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fied Threat Management (U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" y="3376440"/>
            <a:ext cx="4114800" cy="32529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5105520" y="3352680"/>
            <a:ext cx="3581280" cy="3048120"/>
            <a:chOff x="5105520" y="3352680"/>
            <a:chExt cx="3581280" cy="3048120"/>
          </a:xfrm>
        </p:grpSpPr>
        <p:sp>
          <p:nvSpPr>
            <p:cNvPr id="217" name=""/>
            <p:cNvSpPr/>
            <p:nvPr/>
          </p:nvSpPr>
          <p:spPr>
            <a:xfrm>
              <a:off x="5105520" y="3352680"/>
              <a:ext cx="3581280" cy="3048120"/>
            </a:xfrm>
            <a:prstGeom prst="rect">
              <a:avLst/>
            </a:prstGeom>
            <a:solidFill>
              <a:srgbClr val="5c80c2"/>
            </a:solidFill>
            <a:ln w="0">
              <a:noFill/>
            </a:ln>
            <a:effectLst>
              <a:outerShdw dist="17819" dir="2700000" blurRad="0" rotWithShape="0">
                <a:srgbClr val="bebeb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4000680"/>
              <a:ext cx="32767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87"/>
                </a:spcBef>
                <a:buClr>
                  <a:srgbClr val="ffffff"/>
                </a:buClr>
                <a:buSzPct val="11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Infrastructure-wid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87"/>
                </a:spcBef>
                <a:buClr>
                  <a:srgbClr val="ffffff"/>
                </a:buClr>
                <a:buSzPct val="11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Coordinated defens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87"/>
                </a:spcBef>
                <a:buClr>
                  <a:srgbClr val="ffffff"/>
                </a:buClr>
                <a:buSzPct val="11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Integrated technologi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87"/>
                </a:spcBef>
                <a:buClr>
                  <a:srgbClr val="ffffff"/>
                </a:buClr>
                <a:buSzPct val="11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Single point of contr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57800" y="3467160"/>
              <a:ext cx="33526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eck Point Approa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7924680" y="5715000"/>
              <a:ext cx="609840" cy="56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"/>
          <p:cNvSpPr/>
          <p:nvPr/>
        </p:nvSpPr>
        <p:spPr>
          <a:xfrm>
            <a:off x="4495680" y="4495680"/>
            <a:ext cx="381240" cy="304920"/>
          </a:xfrm>
          <a:custGeom>
            <a:avLst/>
            <a:gdLst>
              <a:gd name="textAreaLeft" fmla="*/ 59400 w 381240"/>
              <a:gd name="textAreaRight" fmla="*/ 333720 w 3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758A-5E71-4779-B951-3AFBDC3E97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Лидер линейки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eck Poi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52280" y="4379760"/>
            <a:ext cx="8834040" cy="1411560"/>
            <a:chOff x="152280" y="4379760"/>
            <a:chExt cx="8834040" cy="1411560"/>
          </a:xfrm>
        </p:grpSpPr>
        <p:sp>
          <p:nvSpPr>
            <p:cNvPr id="224" name=""/>
            <p:cNvSpPr/>
            <p:nvPr/>
          </p:nvSpPr>
          <p:spPr>
            <a:xfrm>
              <a:off x="152280" y="4379760"/>
              <a:ext cx="8834040" cy="14115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28440">
              <a:solidFill>
                <a:srgbClr val="8e000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ddddd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PN-1 Pow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7520" y="4656240"/>
              <a:ext cx="2066760" cy="906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e0000"/>
              </a:solidFill>
              <a:miter/>
            </a:ln>
            <a:effectLst>
              <a:outerShdw dist="17819" dir="2700000" blurRad="0" rotWithShape="0">
                <a:srgbClr val="8e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7002720" y="4799160"/>
              <a:ext cx="1671120" cy="6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726640" y="4583160"/>
              <a:ext cx="363312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Accelerate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dddddd"/>
                  </a:solidFill>
                  <a:latin typeface="Arial"/>
                </a:rPr>
                <a:t>Безопасность для самого</a:t>
              </a:r>
              <a:br>
                <a:rPr sz="2000"/>
              </a:br>
              <a:r>
                <a:rPr b="0" lang="ru-RU" sz="2000" spc="-1" strike="noStrike">
                  <a:solidFill>
                    <a:srgbClr val="dddddd"/>
                  </a:solidFill>
                  <a:latin typeface="Arial"/>
                </a:rPr>
                <a:t>требовательного окру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2280" y="2727360"/>
            <a:ext cx="8839080" cy="1463760"/>
            <a:chOff x="152280" y="2727360"/>
            <a:chExt cx="8839080" cy="1463760"/>
          </a:xfrm>
        </p:grpSpPr>
        <p:sp>
          <p:nvSpPr>
            <p:cNvPr id="229" name=""/>
            <p:cNvSpPr/>
            <p:nvPr/>
          </p:nvSpPr>
          <p:spPr>
            <a:xfrm>
              <a:off x="152280" y="2727360"/>
              <a:ext cx="8839080" cy="1463760"/>
            </a:xfrm>
            <a:prstGeom prst="roundRect">
              <a:avLst>
                <a:gd name="adj" fmla="val 16667"/>
              </a:avLst>
            </a:prstGeom>
            <a:solidFill>
              <a:srgbClr val="ded900">
                <a:alpha val="65000"/>
              </a:srgbClr>
            </a:solidFill>
            <a:ln w="28440">
              <a:solidFill>
                <a:srgbClr val="48460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VPN-1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T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01480" y="3003480"/>
              <a:ext cx="2067840" cy="906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8000"/>
              </a:solidFill>
              <a:miter/>
            </a:ln>
            <a:effectLst>
              <a:outerShdw dist="17819" dir="2700000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7006680" y="3124080"/>
              <a:ext cx="16722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714040" y="2906640"/>
              <a:ext cx="438228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2929"/>
                  </a:solidFill>
                  <a:latin typeface="Arial"/>
                </a:rPr>
                <a:t>Next Generation U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92929"/>
                  </a:solidFill>
                  <a:latin typeface="Arial"/>
                </a:rPr>
                <a:t>Масштабируемость, Интеграция, </a:t>
              </a:r>
              <a:br>
                <a:rPr sz="2000"/>
              </a:br>
              <a:r>
                <a:rPr b="0" lang="ru-RU" sz="2000" spc="-1" strike="noStrike">
                  <a:solidFill>
                    <a:srgbClr val="292929"/>
                  </a:solidFill>
                  <a:latin typeface="Arial"/>
                </a:rPr>
                <a:t>Функционал и Управляем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33520" y="1752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являем 2 новых продуктовые линейки для высоких требований к безопасности и производи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926F-BBE2-40F6-A1BE-2D58D81B9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ляе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Point VPN-1 U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371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ext Generation U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905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штабируемый, интегрированный, функциональный, управляем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4800600"/>
            <a:ext cx="2743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943600"/>
            <a:ext cx="2590920" cy="45720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wall / 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5410080"/>
            <a:ext cx="2590920" cy="45720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4876920"/>
            <a:ext cx="2590920" cy="45720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S/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2514600"/>
            <a:ext cx="2743200" cy="2209680"/>
          </a:xfrm>
          <a:prstGeom prst="rect">
            <a:avLst/>
          </a:prstGeom>
          <a:solidFill>
            <a:srgbClr val="3ea5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4191120"/>
            <a:ext cx="2590920" cy="457200"/>
          </a:xfrm>
          <a:prstGeom prst="rect">
            <a:avLst/>
          </a:prstGeom>
          <a:solidFill>
            <a:srgbClr val="9ed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L 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657600"/>
            <a:ext cx="2590920" cy="457200"/>
          </a:xfrm>
          <a:prstGeom prst="rect">
            <a:avLst/>
          </a:prstGeom>
          <a:solidFill>
            <a:srgbClr val="9ed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2590920" cy="457200"/>
          </a:xfrm>
          <a:prstGeom prst="rect">
            <a:avLst/>
          </a:prstGeom>
          <a:solidFill>
            <a:srgbClr val="9ed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590920"/>
            <a:ext cx="2590920" cy="457200"/>
          </a:xfrm>
          <a:prstGeom prst="rect">
            <a:avLst/>
          </a:prstGeom>
          <a:solidFill>
            <a:srgbClr val="9ed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-Spy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438280"/>
            <a:ext cx="2895480" cy="4114800"/>
          </a:xfrm>
          <a:prstGeom prst="rect">
            <a:avLst/>
          </a:prstGeom>
          <a:solidFill>
            <a:srgbClr val="3ea538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2781360"/>
            <a:ext cx="5181840" cy="799920"/>
          </a:xfrm>
          <a:prstGeom prst="borderCallout1">
            <a:avLst>
              <a:gd name="adj1" fmla="val 18750"/>
              <a:gd name="adj2" fmla="val -8333"/>
              <a:gd name="adj3" fmla="val 11902"/>
              <a:gd name="adj4" fmla="val 120222"/>
            </a:avLst>
          </a:prstGeom>
          <a:noFill/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и безопасности, не входящие в традиционны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3657600"/>
            <a:ext cx="5181840" cy="800280"/>
          </a:xfrm>
          <a:prstGeom prst="borderCallout1">
            <a:avLst>
              <a:gd name="adj1" fmla="val 18750"/>
              <a:gd name="adj2" fmla="val -8333"/>
              <a:gd name="adj3" fmla="val 13888"/>
              <a:gd name="adj4" fmla="val 118689"/>
            </a:avLst>
          </a:prstGeom>
          <a:noFill/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тоящее унифицированное управление – эффективный контрол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4572000"/>
            <a:ext cx="5181840" cy="800280"/>
          </a:xfrm>
          <a:prstGeom prst="borderCallout1">
            <a:avLst>
              <a:gd name="adj1" fmla="val 18750"/>
              <a:gd name="adj2" fmla="val -8333"/>
              <a:gd name="adj3" fmla="val 13888"/>
              <a:gd name="adj4" fmla="val 118689"/>
            </a:avLst>
          </a:prstGeom>
          <a:noFill/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штабируется от малых сайтов до крупнейших предприят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5486400"/>
            <a:ext cx="5181840" cy="800280"/>
          </a:xfrm>
          <a:prstGeom prst="borderCallout1">
            <a:avLst>
              <a:gd name="adj1" fmla="val 18750"/>
              <a:gd name="adj2" fmla="val -8333"/>
              <a:gd name="adj3" fmla="val 14287"/>
              <a:gd name="adj4" fmla="val 118870"/>
            </a:avLst>
          </a:prstGeom>
          <a:noFill/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бкость внедрения – ПО или аппаратные устрой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4724280"/>
            <a:ext cx="2438280" cy="1219320"/>
            <a:chOff x="3276720" y="4724280"/>
            <a:chExt cx="2438280" cy="1219320"/>
          </a:xfrm>
        </p:grpSpPr>
        <p:sp>
          <p:nvSpPr>
            <p:cNvPr id="252" name=""/>
            <p:cNvSpPr/>
            <p:nvPr/>
          </p:nvSpPr>
          <p:spPr>
            <a:xfrm>
              <a:off x="4537800" y="5186520"/>
              <a:ext cx="1177200" cy="209880"/>
            </a:xfrm>
            <a:custGeom>
              <a:avLst/>
              <a:gdLst>
                <a:gd name="textAreaLeft" fmla="*/ 183960 w 1177200"/>
                <a:gd name="textAreaRight" fmla="*/ 1030320 w 1177200"/>
                <a:gd name="textAreaTop" fmla="*/ 52560 h 209880"/>
                <a:gd name="textAreaBottom" fmla="*/ 157680 h 2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80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3276720" y="4724280"/>
              <a:ext cx="124524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762120" y="5410080"/>
            <a:ext cx="3465360" cy="1081080"/>
            <a:chOff x="762120" y="5410080"/>
            <a:chExt cx="3465360" cy="108108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762120" y="5638680"/>
              <a:ext cx="34653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1066680" y="5791320"/>
              <a:ext cx="1195200" cy="469440"/>
              <a:chOff x="1066680" y="5791320"/>
              <a:chExt cx="1195200" cy="469440"/>
            </a:xfrm>
          </p:grpSpPr>
          <p:graphicFrame>
            <p:nvGraphicFramePr>
              <p:cNvPr id="257" name=""/>
              <p:cNvGraphicFramePr/>
              <p:nvPr/>
            </p:nvGraphicFramePr>
            <p:xfrm>
              <a:off x="1794600" y="5835960"/>
              <a:ext cx="259200" cy="184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94600" y="5835960"/>
                        <a:ext cx="259200" cy="18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9" name=""/>
              <p:cNvGraphicFramePr/>
              <p:nvPr/>
            </p:nvGraphicFramePr>
            <p:xfrm>
              <a:off x="2054160" y="5791320"/>
              <a:ext cx="207720" cy="147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054160" y="5791320"/>
                        <a:ext cx="207720" cy="14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1" name=""/>
              <p:cNvGraphicFramePr/>
              <p:nvPr/>
            </p:nvGraphicFramePr>
            <p:xfrm>
              <a:off x="1456200" y="5906160"/>
              <a:ext cx="338400" cy="240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6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56200" y="5906160"/>
                        <a:ext cx="338400" cy="240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3" name=""/>
              <p:cNvGraphicFramePr/>
              <p:nvPr/>
            </p:nvGraphicFramePr>
            <p:xfrm>
              <a:off x="1066680" y="5984640"/>
              <a:ext cx="389520" cy="276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6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66680" y="5984640"/>
                        <a:ext cx="389520" cy="27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5" name=""/>
            <p:cNvGraphicFramePr/>
            <p:nvPr/>
          </p:nvGraphicFramePr>
          <p:xfrm>
            <a:off x="2438280" y="5487840"/>
            <a:ext cx="44316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38280" y="5487840"/>
                      <a:ext cx="4431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3200400" y="5410080"/>
            <a:ext cx="492120" cy="762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00400" y="5410080"/>
                      <a:ext cx="492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6DB7-4CE0-4AE5-B14C-D9D25B19D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2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045040" y="2022480"/>
            <a:ext cx="3946680" cy="4606920"/>
          </a:xfrm>
          <a:prstGeom prst="rect">
            <a:avLst/>
          </a:prstGeom>
          <a:gradFill rotWithShape="0">
            <a:gsLst>
              <a:gs pos="0">
                <a:srgbClr val="700000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700000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ляем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Point VPN-1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319800" y="2346480"/>
            <a:ext cx="1397160" cy="1301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84320" y="2022480"/>
            <a:ext cx="4054320" cy="4606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cc00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0880" y="2209320"/>
            <a:ext cx="3124440" cy="1683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9914600">
            <a:off x="-2880" y="304776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производи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740560"/>
            <a:ext cx="1981080" cy="812520"/>
          </a:xfrm>
          <a:prstGeom prst="rect">
            <a:avLst/>
          </a:prstGeom>
          <a:solidFill>
            <a:srgbClr val="3ea538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пропускная способ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4775040"/>
            <a:ext cx="1981080" cy="863640"/>
          </a:xfrm>
          <a:prstGeom prst="rect">
            <a:avLst/>
          </a:prstGeom>
          <a:solidFill>
            <a:srgbClr val="3ea538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одновременных сесс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530520"/>
            <a:ext cx="1981440" cy="1123920"/>
          </a:xfrm>
          <a:prstGeom prst="rect">
            <a:avLst/>
          </a:prstGeom>
          <a:solidFill>
            <a:srgbClr val="3ea538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требовательные прило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560" y="39942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-1 Power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2409480" y="4106520"/>
            <a:ext cx="4357800" cy="331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37200" y="4419720"/>
            <a:ext cx="3722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5c80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Безопасность для самых требовательных предприя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5c80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5c80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400+% </a:t>
            </a: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рост производительности за счет 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cureX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12193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величенная производительность, бескомпромиссная безопас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6E40-16B4-4E40-A78E-51B621C28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2013120" y="2089080"/>
          <a:ext cx="335736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2089080"/>
                    <a:ext cx="3357360" cy="4400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ebebe"/>
                    </a:outerShdw>
                  </a:effectLst>
                </p:spPr>
              </p:pic>
            </p:oleObj>
          </a:graphicData>
        </a:graphic>
      </p:graphicFrame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112680"/>
            <a:ext cx="685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Шлюзы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PN-1 Power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еспрецедентная производительность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634000" y="2089080"/>
          <a:ext cx="3357720" cy="29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0" y="2089080"/>
                    <a:ext cx="3357720" cy="294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ebebe"/>
                    </a:outerShdw>
                  </a:effectLst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554760" y="25653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151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4960" y="5481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AES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4320" y="3900600"/>
            <a:ext cx="19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ffic blend, default security 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48640" y="5635800"/>
            <a:ext cx="731880" cy="144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48640" y="5850000"/>
            <a:ext cx="731880" cy="144360"/>
          </a:xfrm>
          <a:prstGeom prst="rect">
            <a:avLst/>
          </a:prstGeom>
          <a:solidFill>
            <a:srgbClr val="5c80c2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7760" y="5562720"/>
            <a:ext cx="175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N-1 Power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N-1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74680" y="173664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put,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58840" y="17366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2400" y="2514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0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7280" y="3048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4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800" y="3852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52400" y="4387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51560" y="51944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2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6840" y="5805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93040" y="2406600"/>
            <a:ext cx="7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13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4520" y="29718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6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8560" y="38098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360" y="4343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03440" y="6172200"/>
            <a:ext cx="331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Dell 2850 Dual Xeon 3.6 GHz 800 MHz 2GB 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D34D-A939-46C8-89AA-586E69CACE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14400" y="1447920"/>
            <a:ext cx="6792840" cy="5105160"/>
          </a:xfrm>
          <a:prstGeom prst="roundRect">
            <a:avLst>
              <a:gd name="adj" fmla="val 16667"/>
            </a:avLst>
          </a:prstGeom>
          <a:solidFill>
            <a:srgbClr val="c5ebc3"/>
          </a:solidFill>
          <a:ln w="9360">
            <a:solidFill>
              <a:srgbClr val="3ea5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4818"/>
                </a:solidFill>
                <a:latin typeface="Arial"/>
              </a:rPr>
              <a:t>Производительность и Прост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5960" y="2101680"/>
            <a:ext cx="8946000" cy="3708000"/>
            <a:chOff x="165960" y="2101680"/>
            <a:chExt cx="8946000" cy="3708000"/>
          </a:xfrm>
        </p:grpSpPr>
        <p:sp>
          <p:nvSpPr>
            <p:cNvPr id="308" name=""/>
            <p:cNvSpPr/>
            <p:nvPr/>
          </p:nvSpPr>
          <p:spPr>
            <a:xfrm rot="598200">
              <a:off x="302040" y="2792520"/>
              <a:ext cx="8182800" cy="2287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98200">
              <a:off x="873000" y="2937600"/>
              <a:ext cx="8110800" cy="21862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98200">
              <a:off x="1384200" y="2917440"/>
              <a:ext cx="6277680" cy="2109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98200">
              <a:off x="1170000" y="2879640"/>
              <a:ext cx="6277680" cy="21096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ec49d"/>
                </a:gs>
                <a:gs pos="100000">
                  <a:srgbClr val="ff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2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бъединение лучшего: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PN-1 UTM Power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419720" y="2819520"/>
            <a:ext cx="2668320" cy="2668320"/>
            <a:chOff x="4419720" y="2819520"/>
            <a:chExt cx="2668320" cy="2668320"/>
          </a:xfrm>
        </p:grpSpPr>
        <p:sp>
          <p:nvSpPr>
            <p:cNvPr id="314" name=""/>
            <p:cNvSpPr/>
            <p:nvPr/>
          </p:nvSpPr>
          <p:spPr>
            <a:xfrm>
              <a:off x="4419720" y="2819520"/>
              <a:ext cx="2668320" cy="2668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2819520"/>
              <a:ext cx="2666880" cy="26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2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simplicity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of an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l-in-one platfo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827360" y="2436840"/>
            <a:ext cx="2668320" cy="2668320"/>
            <a:chOff x="1827360" y="2436840"/>
            <a:chExt cx="2668320" cy="2668320"/>
          </a:xfrm>
        </p:grpSpPr>
        <p:sp>
          <p:nvSpPr>
            <p:cNvPr id="317" name=""/>
            <p:cNvSpPr/>
            <p:nvPr/>
          </p:nvSpPr>
          <p:spPr>
            <a:xfrm>
              <a:off x="1827360" y="2436840"/>
              <a:ext cx="2668320" cy="2668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8800" y="2436840"/>
              <a:ext cx="2666520" cy="266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25098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Blazing fast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lti-gigabit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447920" y="220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a4818"/>
                </a:solidFill>
                <a:latin typeface="Arial"/>
              </a:rPr>
              <a:t>Лучшее из обоих ми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10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деальное решение для производительных сайтов со строгими требованиями к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35F2-006B-4334-93C5-299B46728787}" type="slidenum">
              <a:t>15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е преиму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4114800" cy="3124080"/>
          </a:xfrm>
          <a:prstGeom prst="rect">
            <a:avLst/>
          </a:prstGeom>
          <a:noFill/>
          <a:ln w="9360">
            <a:solidFill>
              <a:srgbClr val="bebeb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ы получа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енные технологии безопасности в одном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, усиливающее существующие инвестиции в управление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возможностей при меньшей ц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ы внедрения на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09760" cy="7257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572000" y="2971800"/>
            <a:ext cx="4114800" cy="3124080"/>
          </a:xfrm>
          <a:prstGeom prst="rect">
            <a:avLst/>
          </a:prstGeom>
          <a:noFill/>
          <a:ln w="9360">
            <a:solidFill>
              <a:srgbClr val="beb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6600"/>
                </a:solidFill>
                <a:latin typeface="Arial"/>
              </a:rPr>
              <a:t>Вы получаете</a:t>
            </a:r>
            <a:r>
              <a:rPr b="0" i="1" lang="en-US" sz="21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ый рост производительности как составная часть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ительность без ущерба для безопас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ентованная технология ускор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ст производительности на существующем «желез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8608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7D65-7A78-4345-A5B4-4F0FDA89F1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онятные предложения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3203640" cy="43668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-1 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306520"/>
            <a:ext cx="3203640" cy="43668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-1 Express 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1676520"/>
            <a:ext cx="533520" cy="1143000"/>
          </a:xfrm>
          <a:custGeom>
            <a:avLst/>
            <a:gdLst>
              <a:gd name="textAreaLeft" fmla="*/ 0 w 533520"/>
              <a:gd name="textAreaRight" fmla="*/ 19260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1752480"/>
            <a:ext cx="685800" cy="1143000"/>
          </a:xfrm>
          <a:custGeom>
            <a:avLst/>
            <a:gdLst>
              <a:gd name="textAreaLeft" fmla="*/ 0 w 685800"/>
              <a:gd name="textAreaRight" fmla="*/ 247680 w 6858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077920"/>
            <a:ext cx="3203280" cy="436680"/>
          </a:xfrm>
          <a:prstGeom prst="rect">
            <a:avLst/>
          </a:prstGeom>
          <a:solidFill>
            <a:srgbClr val="3ea538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-1 U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2971800"/>
            <a:ext cx="3203640" cy="43668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-1 P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3525840"/>
            <a:ext cx="3203640" cy="43668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X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992320"/>
            <a:ext cx="685800" cy="1067040"/>
          </a:xfrm>
          <a:custGeom>
            <a:avLst/>
            <a:gdLst>
              <a:gd name="textAreaLeft" fmla="*/ 0 w 685800"/>
              <a:gd name="textAreaRight" fmla="*/ 247680 w 6858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3220920"/>
            <a:ext cx="3203280" cy="4366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-1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246560"/>
            <a:ext cx="3203640" cy="43668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-1 U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4800600"/>
            <a:ext cx="3203640" cy="43668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-1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4191120"/>
            <a:ext cx="685800" cy="1066680"/>
          </a:xfrm>
          <a:custGeom>
            <a:avLst/>
            <a:gdLst>
              <a:gd name="textAreaLeft" fmla="*/ 0 w 685800"/>
              <a:gd name="textAreaRight" fmla="*/ 247680 w 6858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4495680"/>
            <a:ext cx="3203280" cy="4366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-1 UTM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5659560"/>
            <a:ext cx="3203640" cy="436320"/>
          </a:xfrm>
          <a:prstGeom prst="rect">
            <a:avLst/>
          </a:prstGeom>
          <a:solidFill>
            <a:srgbClr val="bebebe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-1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5715000"/>
            <a:ext cx="533160" cy="380880"/>
          </a:xfrm>
          <a:custGeom>
            <a:avLst/>
            <a:gdLst>
              <a:gd name="textAreaLeft" fmla="*/ 8316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5638680"/>
            <a:ext cx="3203280" cy="436680"/>
          </a:xfrm>
          <a:prstGeom prst="rect">
            <a:avLst/>
          </a:prstGeom>
          <a:solidFill>
            <a:srgbClr val="5c80c2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-1 UTM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7521-6698-471E-B3BF-F8B7A7B4EA1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124080" y="1523880"/>
            <a:ext cx="5791320" cy="1600200"/>
          </a:xfrm>
          <a:prstGeom prst="rect">
            <a:avLst/>
          </a:prstGeom>
          <a:solidFill>
            <a:srgbClr val="00ccff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иалы д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труд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ычно не имеющие выделенно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даются в и в сетевых функциях, и в безопас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4876920"/>
            <a:ext cx="5791320" cy="16002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пные сай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ьзова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ются высокоэффективные прило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чайшие требования к безопас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200400"/>
            <a:ext cx="5791320" cy="16002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ий бизнес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-5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азчики ищут просто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ежная безопасность и унифицированное 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птимальное использование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19520" cy="6508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2819520" cy="649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52280" y="5261040"/>
            <a:ext cx="2819520" cy="68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A36E-EA01-4674-B2C2-2D6F53E530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Что такое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VPN-1 Edge UTM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ройство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PN-1 Edge UTM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спечива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енную безопасность для защиты удаленных точ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трализованное управление с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rt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аленное подключение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952880" y="1752480"/>
          <a:ext cx="236232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236232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638680" y="2286000"/>
            <a:ext cx="2819520" cy="2198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62560" y="5334120"/>
            <a:ext cx="5805720" cy="825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интегрированное решени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ирующее стоимость вла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CE2F-4235-4142-9C32-AD187CAEF8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3600"/>
            <a:ext cx="8153280" cy="954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ы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зов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T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опасност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о меняющееся окружени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29160" y="5019840"/>
            <a:ext cx="3605400" cy="7585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Защита КПК, мобильных телефоно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0040" y="3619440"/>
            <a:ext cx="3284640" cy="1409760"/>
          </a:xfrm>
          <a:prstGeom prst="roundRect">
            <a:avLst>
              <a:gd name="adj" fmla="val 16667"/>
            </a:avLst>
          </a:prstGeom>
          <a:solidFill>
            <a:srgbClr val="5c80c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вторизация пользователей в системах и приложен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552680"/>
            <a:ext cx="2895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67160" y="1542960"/>
            <a:ext cx="2805120" cy="7588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дотвраще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ПАМ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57560" y="5848200"/>
            <a:ext cx="480708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ым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ндустриальным стандарта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960" y="3492360"/>
            <a:ext cx="4389480" cy="758880"/>
          </a:xfrm>
          <a:prstGeom prst="roundRect">
            <a:avLst>
              <a:gd name="adj" fmla="val 16667"/>
            </a:avLst>
          </a:prstGeom>
          <a:solidFill>
            <a:srgbClr val="3ea538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дотвращение утечки информац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76600" y="2324160"/>
            <a:ext cx="3621240" cy="1447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1440"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новых приложений и протокол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VoIP, XM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08040"/>
            <a:ext cx="3411720" cy="1162080"/>
          </a:xfrm>
          <a:prstGeom prst="roundRect">
            <a:avLst>
              <a:gd name="adj" fmla="val 16667"/>
            </a:avLst>
          </a:prstGeom>
          <a:solidFill>
            <a:srgbClr val="5c80c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дотвращение несанкционированного доступа к се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400" y="4416480"/>
            <a:ext cx="2423880" cy="7603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локирование шпионского П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9360" y="1390680"/>
            <a:ext cx="2766960" cy="1160280"/>
          </a:xfrm>
          <a:prstGeom prst="roundRect">
            <a:avLst>
              <a:gd name="adj" fmla="val 16667"/>
            </a:avLst>
          </a:prstGeom>
          <a:solidFill>
            <a:srgbClr val="3ea538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Безопасный доступ к ресурсам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eb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54360" y="4191120"/>
            <a:ext cx="2674800" cy="1160280"/>
          </a:xfrm>
          <a:prstGeom prst="roundRect">
            <a:avLst>
              <a:gd name="adj" fmla="val 16667"/>
            </a:avLst>
          </a:prstGeom>
          <a:solidFill>
            <a:srgbClr val="5c80c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нализ событий безопас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5856120"/>
            <a:ext cx="4070520" cy="7588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Защита персональных компьюте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5092560"/>
            <a:ext cx="3453120" cy="758880"/>
          </a:xfrm>
          <a:prstGeom prst="roundRect">
            <a:avLst>
              <a:gd name="adj" fmla="val 16667"/>
            </a:avLst>
          </a:prstGeom>
          <a:solidFill>
            <a:srgbClr val="3ea538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Безопасный удаленный доступ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552760"/>
            <a:ext cx="3722760" cy="1008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e7e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Блокирование червей и вирусов внутри сет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A545-A4E3-4329-917C-2BAF6CCFF81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озможности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тевые возмож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, Source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based VP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грированна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PS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rtDefen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1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троенны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tivi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14"/>
              </a:spcBef>
              <a:buClr>
                <a:srgbClr val="4c80c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оковы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/V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файлов любых разме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Fi, ADSL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B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т-серве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038480" cy="2589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181480" y="5638680"/>
            <a:ext cx="3886200" cy="117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9DB1-58A8-462F-83EA-F2A7B7AE2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езотказность обслуживания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66068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90000"/>
              </a:lnSpc>
              <a:spcBef>
                <a:spcPts val="876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P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876"/>
              </a:spcBef>
              <a:buClr>
                <a:srgbClr val="5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lup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876"/>
              </a:spcBef>
              <a:buClr>
                <a:srgbClr val="5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teway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431120" y="3213000"/>
          <a:ext cx="14479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1120" y="3213000"/>
                    <a:ext cx="144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7812000" y="3441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40400" y="3594240"/>
            <a:ext cx="1219320" cy="31752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0"/>
                </a:moveTo>
                <a:cubicBezTo>
                  <a:pt x="108" y="44"/>
                  <a:pt x="216" y="88"/>
                  <a:pt x="288" y="96"/>
                </a:cubicBezTo>
                <a:cubicBezTo>
                  <a:pt x="360" y="104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77040" y="1689120"/>
          <a:ext cx="14479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7040" y="1689120"/>
                    <a:ext cx="144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7658280" y="1917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86680" y="2146320"/>
            <a:ext cx="1218960" cy="7632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0"/>
                </a:moveTo>
                <a:cubicBezTo>
                  <a:pt x="108" y="44"/>
                  <a:pt x="216" y="88"/>
                  <a:pt x="288" y="96"/>
                </a:cubicBezTo>
                <a:cubicBezTo>
                  <a:pt x="360" y="104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440" y="190512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51560" y="240336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up 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27432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144"/>
                </a:moveTo>
                <a:cubicBezTo>
                  <a:pt x="20" y="72"/>
                  <a:pt x="40" y="0"/>
                  <a:pt x="48" y="9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5602320" y="3898800"/>
            <a:ext cx="762120" cy="6256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617160" y="4168800"/>
            <a:ext cx="144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lup Mod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ckup I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848720" y="5410080"/>
          <a:ext cx="1295280" cy="63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48720" y="5410080"/>
                    <a:ext cx="12952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8153280" y="5562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3800" y="5562720"/>
            <a:ext cx="304920" cy="152280"/>
          </a:xfrm>
          <a:custGeom>
            <a:avLst/>
            <a:gdLst/>
            <a:ahLst/>
            <a:rect l="l" t="t" r="r" b="b"/>
            <a:pathLst>
              <a:path w="288" h="48">
                <a:moveTo>
                  <a:pt x="288" y="48"/>
                </a:moveTo>
                <a:cubicBezTo>
                  <a:pt x="160" y="24"/>
                  <a:pt x="32" y="0"/>
                  <a:pt x="0" y="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5715000"/>
            <a:ext cx="990720" cy="60948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576" y="0"/>
                </a:moveTo>
                <a:cubicBezTo>
                  <a:pt x="504" y="112"/>
                  <a:pt x="432" y="224"/>
                  <a:pt x="336" y="288"/>
                </a:cubicBezTo>
                <a:cubicBezTo>
                  <a:pt x="240" y="352"/>
                  <a:pt x="120" y="368"/>
                  <a:pt x="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5715000" y="579132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477120" y="5410080"/>
            <a:ext cx="838080" cy="381240"/>
          </a:xfrm>
          <a:custGeom>
            <a:avLst/>
            <a:gdLst/>
            <a:ahLst/>
            <a:rect l="l" t="t" r="r" b="b"/>
            <a:pathLst>
              <a:path w="480" h="208">
                <a:moveTo>
                  <a:pt x="0" y="208"/>
                </a:moveTo>
                <a:cubicBezTo>
                  <a:pt x="116" y="200"/>
                  <a:pt x="232" y="192"/>
                  <a:pt x="288" y="160"/>
                </a:cubicBezTo>
                <a:cubicBezTo>
                  <a:pt x="344" y="128"/>
                  <a:pt x="304" y="32"/>
                  <a:pt x="336" y="16"/>
                </a:cubicBezTo>
                <a:cubicBezTo>
                  <a:pt x="368" y="0"/>
                  <a:pt x="424" y="32"/>
                  <a:pt x="480" y="6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9"/>
          <a:stretch/>
        </p:blipFill>
        <p:spPr>
          <a:xfrm>
            <a:off x="5791320" y="5257800"/>
            <a:ext cx="914400" cy="714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7162920" y="5440320"/>
            <a:ext cx="533160" cy="371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172200" y="2133720"/>
            <a:ext cx="1486080" cy="266760"/>
          </a:xfrm>
          <a:custGeom>
            <a:avLst/>
            <a:gdLst/>
            <a:ahLst/>
            <a:rect l="l" t="t" r="r" b="b"/>
            <a:pathLst>
              <a:path w="864" h="112">
                <a:moveTo>
                  <a:pt x="0" y="0"/>
                </a:moveTo>
                <a:cubicBezTo>
                  <a:pt x="72" y="40"/>
                  <a:pt x="144" y="80"/>
                  <a:pt x="240" y="96"/>
                </a:cubicBezTo>
                <a:cubicBezTo>
                  <a:pt x="336" y="112"/>
                  <a:pt x="472" y="104"/>
                  <a:pt x="576" y="96"/>
                </a:cubicBezTo>
                <a:cubicBezTo>
                  <a:pt x="680" y="88"/>
                  <a:pt x="772" y="68"/>
                  <a:pt x="864" y="48"/>
                </a:cubicBezTo>
              </a:path>
            </a:pathLst>
          </a:custGeom>
          <a:noFill/>
          <a:ln cap="rnd" w="381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88120" y="3822840"/>
            <a:ext cx="1752480" cy="380880"/>
          </a:xfrm>
          <a:custGeom>
            <a:avLst/>
            <a:gdLst/>
            <a:ahLst/>
            <a:rect l="l" t="t" r="r" b="b"/>
            <a:pathLst>
              <a:path w="912" h="208">
                <a:moveTo>
                  <a:pt x="0" y="192"/>
                </a:moveTo>
                <a:cubicBezTo>
                  <a:pt x="56" y="200"/>
                  <a:pt x="112" y="208"/>
                  <a:pt x="240" y="192"/>
                </a:cubicBezTo>
                <a:cubicBezTo>
                  <a:pt x="368" y="176"/>
                  <a:pt x="656" y="128"/>
                  <a:pt x="768" y="96"/>
                </a:cubicBezTo>
                <a:cubicBezTo>
                  <a:pt x="880" y="64"/>
                  <a:pt x="896" y="32"/>
                  <a:pt x="912" y="0"/>
                </a:cubicBezTo>
              </a:path>
            </a:pathLst>
          </a:custGeom>
          <a:noFill/>
          <a:ln cap="rnd" w="381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99720" y="3200400"/>
            <a:ext cx="130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rimary I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5678640" y="306072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6172200" y="3657600"/>
            <a:ext cx="317520" cy="380880"/>
          </a:xfrm>
          <a:custGeom>
            <a:avLst/>
            <a:gdLst/>
            <a:ahLst/>
            <a:rect l="l" t="t" r="r" b="b"/>
            <a:pathLst>
              <a:path w="200" h="240">
                <a:moveTo>
                  <a:pt x="48" y="0"/>
                </a:moveTo>
                <a:cubicBezTo>
                  <a:pt x="124" y="28"/>
                  <a:pt x="200" y="56"/>
                  <a:pt x="192" y="96"/>
                </a:cubicBezTo>
                <a:cubicBezTo>
                  <a:pt x="184" y="136"/>
                  <a:pt x="32" y="208"/>
                  <a:pt x="0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16120" y="636588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71840" y="495288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2"/>
          <a:stretch/>
        </p:blipFill>
        <p:spPr>
          <a:xfrm>
            <a:off x="5638680" y="1676520"/>
            <a:ext cx="838440" cy="65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307D-2F18-4B32-B454-8CF3BFF2CB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PN-1 UTM Edge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орпоративный МСЭ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-25560" y="1600200"/>
            <a:ext cx="9169560" cy="49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8650-4BD3-42F3-810E-AB080F6217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PN-1 UTM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0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 что обращать внимание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2215800"/>
            <a:ext cx="2590560" cy="916920"/>
          </a:xfrm>
          <a:prstGeom prst="rect">
            <a:avLst/>
          </a:prstGeom>
          <a:solidFill>
            <a:srgbClr val="3ea53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полнительные функци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льше, че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200400"/>
            <a:ext cx="2590560" cy="914400"/>
          </a:xfrm>
          <a:prstGeom prst="rect">
            <a:avLst/>
          </a:prstGeom>
          <a:solidFill>
            <a:srgbClr val="3ea53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ительно унифицированное упр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4191120"/>
            <a:ext cx="2590560" cy="914400"/>
          </a:xfrm>
          <a:prstGeom prst="rect">
            <a:avLst/>
          </a:prstGeom>
          <a:solidFill>
            <a:srgbClr val="3ea53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ликолепная масштабируем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5181480"/>
            <a:ext cx="2590560" cy="916920"/>
          </a:xfrm>
          <a:prstGeom prst="rect">
            <a:avLst/>
          </a:prstGeom>
          <a:solidFill>
            <a:srgbClr val="3ea53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рианты внедрения – ПО и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24382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4290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4419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1761480"/>
            <a:ext cx="2514600" cy="368280"/>
          </a:xfrm>
          <a:prstGeom prst="rect">
            <a:avLst/>
          </a:prstGeom>
          <a:solidFill>
            <a:srgbClr val="3ea53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1761480"/>
            <a:ext cx="2362320" cy="368280"/>
          </a:xfrm>
          <a:prstGeom prst="rect">
            <a:avLst/>
          </a:prstGeom>
          <a:solidFill>
            <a:srgbClr val="3ea53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209680"/>
            <a:ext cx="243864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 безопас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ывает больше типов угро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800" y="2209680"/>
            <a:ext cx="251460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зопасн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рабочими станц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3200400"/>
            <a:ext cx="243864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ошо налаженное администр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отиворечивые поли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3200400"/>
            <a:ext cx="251460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фицированное управление всеми шлюз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9880" y="4191120"/>
            <a:ext cx="243864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ое внедр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зде надежная безопас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4191120"/>
            <a:ext cx="251460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колепная безопасность даже для удаленных сай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5181480"/>
            <a:ext cx="243864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ет на существующих платформ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ое внедр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00800" y="5181480"/>
            <a:ext cx="2514600" cy="914400"/>
          </a:xfrm>
          <a:prstGeom prst="rect">
            <a:avLst/>
          </a:prstGeom>
          <a:solidFill>
            <a:srgbClr val="abe2a8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T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реальный выб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0584-BEB1-481A-9BC2-9CBD6B3C13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PN-1 Power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 что обращать внимание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2209680"/>
            <a:ext cx="25905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коренная безопа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3200400"/>
            <a:ext cx="25905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черпывающая безопа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4191120"/>
            <a:ext cx="25905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щищенные 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5181480"/>
            <a:ext cx="259056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фицированное упр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24382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34290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8120" y="4419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1761480"/>
            <a:ext cx="24382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1761480"/>
            <a:ext cx="2438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2209680"/>
            <a:ext cx="243864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ительность выше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2209680"/>
            <a:ext cx="243828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а на патентованной технолог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cureX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3200400"/>
            <a:ext cx="243864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от атак как сетевых, так и на прило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200400"/>
            <a:ext cx="243828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держка многих приложений, включа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2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4191120"/>
            <a:ext cx="243864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гкость внедр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ая стоимость удаленного досту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191120"/>
            <a:ext cx="243828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образные сценарии внедр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5181480"/>
            <a:ext cx="243864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ошо налаженное администр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изованное 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5181480"/>
            <a:ext cx="2438280" cy="914400"/>
          </a:xfrm>
          <a:prstGeom prst="rect">
            <a:avLst/>
          </a:prstGeom>
          <a:solidFill>
            <a:srgbClr val="bebebe"/>
          </a:solidFill>
          <a:ln w="9360">
            <a:solidFill>
              <a:srgbClr val="bebebe"/>
            </a:solidFill>
            <a:miter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фицированное управление всеми шлюз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4113-3BEA-43F1-B329-3F99F384E0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упное предприятие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ified Threat Management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действи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73120" y="1433520"/>
            <a:ext cx="7918560" cy="5272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 rot="4642800">
            <a:off x="6123600" y="3175560"/>
            <a:ext cx="1220760" cy="3092400"/>
          </a:xfrm>
          <a:prstGeom prst="ellipse">
            <a:avLst/>
          </a:prstGeom>
          <a:solidFill>
            <a:srgbClr val="ff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4743600">
            <a:off x="2221560" y="3506040"/>
            <a:ext cx="1239480" cy="3143160"/>
          </a:xfrm>
          <a:prstGeom prst="ellipse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65360" y="4910040"/>
            <a:ext cx="167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ьный оф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04040" y="4754520"/>
            <a:ext cx="180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й оф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4642800">
            <a:off x="2621520" y="848520"/>
            <a:ext cx="960480" cy="4029120"/>
          </a:xfrm>
          <a:prstGeom prst="ellipse">
            <a:avLst/>
          </a:prstGeom>
          <a:solidFill>
            <a:srgbClr val="dd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82680" y="2976480"/>
            <a:ext cx="17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и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811160" y="3002040"/>
            <a:ext cx="3349440" cy="1720440"/>
            <a:chOff x="1811160" y="3002040"/>
            <a:chExt cx="3349440" cy="1720440"/>
          </a:xfrm>
        </p:grpSpPr>
        <p:sp>
          <p:nvSpPr>
            <p:cNvPr id="441" name=""/>
            <p:cNvSpPr/>
            <p:nvPr/>
          </p:nvSpPr>
          <p:spPr>
            <a:xfrm>
              <a:off x="1814760" y="3017880"/>
              <a:ext cx="3345840" cy="1704600"/>
            </a:xfrm>
            <a:custGeom>
              <a:avLst/>
              <a:gdLst/>
              <a:ahLst/>
              <a:rect l="l" t="t" r="r" b="b"/>
              <a:pathLst>
                <a:path w="2492" h="1270">
                  <a:moveTo>
                    <a:pt x="810" y="1270"/>
                  </a:moveTo>
                  <a:cubicBezTo>
                    <a:pt x="722" y="1224"/>
                    <a:pt x="0" y="1208"/>
                    <a:pt x="280" y="996"/>
                  </a:cubicBezTo>
                  <a:cubicBezTo>
                    <a:pt x="560" y="784"/>
                    <a:pt x="2031" y="207"/>
                    <a:pt x="2492" y="0"/>
                  </a:cubicBezTo>
                </a:path>
              </a:pathLst>
            </a:custGeom>
            <a:noFill/>
            <a:ln w="28440">
              <a:solidFill>
                <a:srgbClr val="5c80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11160" y="3002040"/>
              <a:ext cx="3345840" cy="1704600"/>
            </a:xfrm>
            <a:custGeom>
              <a:avLst/>
              <a:gdLst/>
              <a:ahLst/>
              <a:rect l="l" t="t" r="r" b="b"/>
              <a:pathLst>
                <a:path w="2492" h="1270">
                  <a:moveTo>
                    <a:pt x="810" y="1270"/>
                  </a:moveTo>
                  <a:cubicBezTo>
                    <a:pt x="722" y="1224"/>
                    <a:pt x="0" y="1208"/>
                    <a:pt x="280" y="996"/>
                  </a:cubicBezTo>
                  <a:cubicBezTo>
                    <a:pt x="560" y="784"/>
                    <a:pt x="2031" y="207"/>
                    <a:pt x="2492" y="0"/>
                  </a:cubicBezTo>
                </a:path>
              </a:pathLst>
            </a:custGeom>
            <a:noFill/>
            <a:ln w="28440">
              <a:solidFill>
                <a:srgbClr val="d2dc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2892600" y="3354480"/>
          <a:ext cx="1031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2600" y="3354480"/>
                    <a:ext cx="1031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3860640" y="3076560"/>
            <a:ext cx="2541600" cy="1474920"/>
          </a:xfrm>
          <a:custGeom>
            <a:avLst/>
            <a:gdLst/>
            <a:ahLst/>
            <a:rect l="l" t="t" r="r" b="b"/>
            <a:pathLst>
              <a:path w="1893" h="1097">
                <a:moveTo>
                  <a:pt x="1893" y="1097"/>
                </a:moveTo>
                <a:cubicBezTo>
                  <a:pt x="1599" y="1022"/>
                  <a:pt x="256" y="832"/>
                  <a:pt x="128" y="649"/>
                </a:cubicBezTo>
                <a:cubicBezTo>
                  <a:pt x="0" y="466"/>
                  <a:pt x="917" y="135"/>
                  <a:pt x="1125" y="0"/>
                </a:cubicBezTo>
              </a:path>
            </a:pathLst>
          </a:custGeom>
          <a:noFill/>
          <a:ln w="28440">
            <a:solidFill>
              <a:srgbClr val="5c8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81560" y="3103560"/>
            <a:ext cx="2984400" cy="1219320"/>
          </a:xfrm>
          <a:custGeom>
            <a:avLst/>
            <a:gdLst/>
            <a:ahLst/>
            <a:rect l="l" t="t" r="r" b="b"/>
            <a:pathLst>
              <a:path w="2222" h="909">
                <a:moveTo>
                  <a:pt x="2222" y="909"/>
                </a:moveTo>
                <a:cubicBezTo>
                  <a:pt x="1889" y="832"/>
                  <a:pt x="446" y="599"/>
                  <a:pt x="223" y="448"/>
                </a:cubicBezTo>
                <a:cubicBezTo>
                  <a:pt x="0" y="297"/>
                  <a:pt x="745" y="93"/>
                  <a:pt x="882" y="0"/>
                </a:cubicBezTo>
              </a:path>
            </a:pathLst>
          </a:custGeom>
          <a:noFill/>
          <a:ln w="28440">
            <a:solidFill>
              <a:srgbClr val="5c8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5960" y="3062160"/>
            <a:ext cx="2541600" cy="1471680"/>
          </a:xfrm>
          <a:custGeom>
            <a:avLst/>
            <a:gdLst/>
            <a:ahLst/>
            <a:rect l="l" t="t" r="r" b="b"/>
            <a:pathLst>
              <a:path w="1893" h="1097">
                <a:moveTo>
                  <a:pt x="1893" y="1097"/>
                </a:moveTo>
                <a:cubicBezTo>
                  <a:pt x="1599" y="1022"/>
                  <a:pt x="256" y="832"/>
                  <a:pt x="128" y="649"/>
                </a:cubicBezTo>
                <a:cubicBezTo>
                  <a:pt x="0" y="466"/>
                  <a:pt x="917" y="135"/>
                  <a:pt x="1125" y="0"/>
                </a:cubicBezTo>
              </a:path>
            </a:pathLst>
          </a:custGeom>
          <a:noFill/>
          <a:ln w="28440">
            <a:solidFill>
              <a:srgbClr val="d2d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78320" y="3086280"/>
            <a:ext cx="2982960" cy="1220760"/>
          </a:xfrm>
          <a:custGeom>
            <a:avLst/>
            <a:gdLst/>
            <a:ahLst/>
            <a:rect l="l" t="t" r="r" b="b"/>
            <a:pathLst>
              <a:path w="2222" h="909">
                <a:moveTo>
                  <a:pt x="2222" y="909"/>
                </a:moveTo>
                <a:cubicBezTo>
                  <a:pt x="1889" y="832"/>
                  <a:pt x="446" y="599"/>
                  <a:pt x="223" y="448"/>
                </a:cubicBezTo>
                <a:cubicBezTo>
                  <a:pt x="0" y="297"/>
                  <a:pt x="745" y="93"/>
                  <a:pt x="882" y="0"/>
                </a:cubicBezTo>
              </a:path>
            </a:pathLst>
          </a:custGeom>
          <a:noFill/>
          <a:ln w="28440">
            <a:solidFill>
              <a:srgbClr val="d2d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7345440" y="3603600"/>
          <a:ext cx="533160" cy="83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45440" y="3603600"/>
                    <a:ext cx="5331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6386400" y="3411360"/>
          <a:ext cx="863640" cy="133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86400" y="3411360"/>
                    <a:ext cx="86364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7086600" y="1219320"/>
            <a:ext cx="217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иная консоль управления для всей унифицированной архитект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253040" y="2316240"/>
            <a:ext cx="1396800" cy="441360"/>
            <a:chOff x="4253040" y="2316240"/>
            <a:chExt cx="1396800" cy="441360"/>
          </a:xfrm>
        </p:grpSpPr>
        <p:sp>
          <p:nvSpPr>
            <p:cNvPr id="455" name=""/>
            <p:cNvSpPr/>
            <p:nvPr/>
          </p:nvSpPr>
          <p:spPr>
            <a:xfrm>
              <a:off x="4267440" y="2328840"/>
              <a:ext cx="1382400" cy="428760"/>
            </a:xfrm>
            <a:custGeom>
              <a:avLst/>
              <a:gdLst/>
              <a:ahLst/>
              <a:rect l="l" t="t" r="r" b="b"/>
              <a:pathLst>
                <a:path w="1468" h="456">
                  <a:moveTo>
                    <a:pt x="0" y="0"/>
                  </a:moveTo>
                  <a:cubicBezTo>
                    <a:pt x="328" y="24"/>
                    <a:pt x="645" y="43"/>
                    <a:pt x="672" y="96"/>
                  </a:cubicBezTo>
                  <a:cubicBezTo>
                    <a:pt x="699" y="149"/>
                    <a:pt x="27" y="256"/>
                    <a:pt x="160" y="316"/>
                  </a:cubicBezTo>
                  <a:cubicBezTo>
                    <a:pt x="293" y="376"/>
                    <a:pt x="1196" y="427"/>
                    <a:pt x="1468" y="456"/>
                  </a:cubicBezTo>
                </a:path>
              </a:pathLst>
            </a:custGeom>
            <a:noFill/>
            <a:ln w="28440">
              <a:solidFill>
                <a:srgbClr val="5c80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53040" y="2316240"/>
              <a:ext cx="1382760" cy="428400"/>
            </a:xfrm>
            <a:custGeom>
              <a:avLst/>
              <a:gdLst/>
              <a:ahLst/>
              <a:rect l="l" t="t" r="r" b="b"/>
              <a:pathLst>
                <a:path w="1468" h="456">
                  <a:moveTo>
                    <a:pt x="0" y="0"/>
                  </a:moveTo>
                  <a:cubicBezTo>
                    <a:pt x="328" y="24"/>
                    <a:pt x="645" y="43"/>
                    <a:pt x="672" y="96"/>
                  </a:cubicBezTo>
                  <a:cubicBezTo>
                    <a:pt x="699" y="149"/>
                    <a:pt x="27" y="256"/>
                    <a:pt x="160" y="316"/>
                  </a:cubicBezTo>
                  <a:cubicBezTo>
                    <a:pt x="293" y="376"/>
                    <a:pt x="1196" y="427"/>
                    <a:pt x="1468" y="456"/>
                  </a:cubicBezTo>
                </a:path>
              </a:pathLst>
            </a:custGeom>
            <a:noFill/>
            <a:ln w="28440">
              <a:solidFill>
                <a:srgbClr val="d2dc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827520" y="2473200"/>
            <a:ext cx="1743120" cy="341280"/>
            <a:chOff x="3827520" y="2473200"/>
            <a:chExt cx="1743120" cy="341280"/>
          </a:xfrm>
        </p:grpSpPr>
        <p:sp>
          <p:nvSpPr>
            <p:cNvPr id="458" name=""/>
            <p:cNvSpPr/>
            <p:nvPr/>
          </p:nvSpPr>
          <p:spPr>
            <a:xfrm>
              <a:off x="3841920" y="2485800"/>
              <a:ext cx="1728720" cy="328680"/>
            </a:xfrm>
            <a:custGeom>
              <a:avLst/>
              <a:gdLst/>
              <a:ahLst/>
              <a:rect l="l" t="t" r="r" b="b"/>
              <a:pathLst>
                <a:path w="1836" h="348">
                  <a:moveTo>
                    <a:pt x="0" y="0"/>
                  </a:moveTo>
                  <a:cubicBezTo>
                    <a:pt x="88" y="11"/>
                    <a:pt x="471" y="31"/>
                    <a:pt x="528" y="64"/>
                  </a:cubicBezTo>
                  <a:cubicBezTo>
                    <a:pt x="585" y="97"/>
                    <a:pt x="126" y="153"/>
                    <a:pt x="344" y="200"/>
                  </a:cubicBezTo>
                  <a:cubicBezTo>
                    <a:pt x="562" y="247"/>
                    <a:pt x="1525" y="317"/>
                    <a:pt x="1836" y="348"/>
                  </a:cubicBezTo>
                </a:path>
              </a:pathLst>
            </a:custGeom>
            <a:noFill/>
            <a:ln w="28440">
              <a:solidFill>
                <a:srgbClr val="5c80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27520" y="2473200"/>
              <a:ext cx="1728720" cy="328680"/>
            </a:xfrm>
            <a:custGeom>
              <a:avLst/>
              <a:gdLst/>
              <a:ahLst/>
              <a:rect l="l" t="t" r="r" b="b"/>
              <a:pathLst>
                <a:path w="1836" h="348">
                  <a:moveTo>
                    <a:pt x="0" y="0"/>
                  </a:moveTo>
                  <a:cubicBezTo>
                    <a:pt x="88" y="11"/>
                    <a:pt x="471" y="31"/>
                    <a:pt x="528" y="64"/>
                  </a:cubicBezTo>
                  <a:cubicBezTo>
                    <a:pt x="585" y="97"/>
                    <a:pt x="126" y="153"/>
                    <a:pt x="344" y="200"/>
                  </a:cubicBezTo>
                  <a:cubicBezTo>
                    <a:pt x="562" y="247"/>
                    <a:pt x="1525" y="317"/>
                    <a:pt x="1836" y="348"/>
                  </a:cubicBezTo>
                </a:path>
              </a:pathLst>
            </a:custGeom>
            <a:noFill/>
            <a:ln w="28440">
              <a:solidFill>
                <a:srgbClr val="d2dc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86280" y="2714760"/>
            <a:ext cx="2247840" cy="158760"/>
            <a:chOff x="3086280" y="2714760"/>
            <a:chExt cx="2247840" cy="158760"/>
          </a:xfrm>
        </p:grpSpPr>
        <p:sp>
          <p:nvSpPr>
            <p:cNvPr id="461" name=""/>
            <p:cNvSpPr/>
            <p:nvPr/>
          </p:nvSpPr>
          <p:spPr>
            <a:xfrm>
              <a:off x="3100680" y="2727720"/>
              <a:ext cx="2233440" cy="145800"/>
            </a:xfrm>
            <a:custGeom>
              <a:avLst/>
              <a:gdLst/>
              <a:ahLst/>
              <a:rect l="l" t="t" r="r" b="b"/>
              <a:pathLst>
                <a:path w="2372" h="156">
                  <a:moveTo>
                    <a:pt x="0" y="0"/>
                  </a:moveTo>
                  <a:cubicBezTo>
                    <a:pt x="104" y="9"/>
                    <a:pt x="467" y="53"/>
                    <a:pt x="624" y="56"/>
                  </a:cubicBezTo>
                  <a:cubicBezTo>
                    <a:pt x="781" y="59"/>
                    <a:pt x="653" y="3"/>
                    <a:pt x="944" y="20"/>
                  </a:cubicBezTo>
                  <a:cubicBezTo>
                    <a:pt x="1235" y="37"/>
                    <a:pt x="2075" y="128"/>
                    <a:pt x="2372" y="156"/>
                  </a:cubicBezTo>
                </a:path>
              </a:pathLst>
            </a:custGeom>
            <a:noFill/>
            <a:ln w="28440">
              <a:solidFill>
                <a:srgbClr val="5c80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6280" y="2714760"/>
              <a:ext cx="2233800" cy="146160"/>
            </a:xfrm>
            <a:custGeom>
              <a:avLst/>
              <a:gdLst/>
              <a:ahLst/>
              <a:rect l="l" t="t" r="r" b="b"/>
              <a:pathLst>
                <a:path w="2372" h="156">
                  <a:moveTo>
                    <a:pt x="0" y="0"/>
                  </a:moveTo>
                  <a:cubicBezTo>
                    <a:pt x="104" y="9"/>
                    <a:pt x="467" y="53"/>
                    <a:pt x="624" y="56"/>
                  </a:cubicBezTo>
                  <a:cubicBezTo>
                    <a:pt x="781" y="59"/>
                    <a:pt x="653" y="3"/>
                    <a:pt x="944" y="20"/>
                  </a:cubicBezTo>
                  <a:cubicBezTo>
                    <a:pt x="1235" y="37"/>
                    <a:pt x="2075" y="128"/>
                    <a:pt x="2372" y="156"/>
                  </a:cubicBezTo>
                </a:path>
              </a:pathLst>
            </a:custGeom>
            <a:noFill/>
            <a:ln w="28440">
              <a:solidFill>
                <a:srgbClr val="d2dc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546280" y="2822400"/>
            <a:ext cx="2708280" cy="204840"/>
            <a:chOff x="2546280" y="2822400"/>
            <a:chExt cx="2708280" cy="204840"/>
          </a:xfrm>
        </p:grpSpPr>
        <p:sp>
          <p:nvSpPr>
            <p:cNvPr id="464" name=""/>
            <p:cNvSpPr/>
            <p:nvPr/>
          </p:nvSpPr>
          <p:spPr>
            <a:xfrm>
              <a:off x="2560320" y="2835000"/>
              <a:ext cx="2694240" cy="192240"/>
            </a:xfrm>
            <a:custGeom>
              <a:avLst/>
              <a:gdLst/>
              <a:ahLst/>
              <a:rect l="l" t="t" r="r" b="b"/>
              <a:pathLst>
                <a:path w="2860" h="204">
                  <a:moveTo>
                    <a:pt x="0" y="135"/>
                  </a:moveTo>
                  <a:cubicBezTo>
                    <a:pt x="145" y="143"/>
                    <a:pt x="599" y="204"/>
                    <a:pt x="868" y="183"/>
                  </a:cubicBezTo>
                  <a:cubicBezTo>
                    <a:pt x="1137" y="162"/>
                    <a:pt x="1284" y="22"/>
                    <a:pt x="1616" y="11"/>
                  </a:cubicBezTo>
                  <a:cubicBezTo>
                    <a:pt x="1948" y="0"/>
                    <a:pt x="2601" y="97"/>
                    <a:pt x="2860" y="119"/>
                  </a:cubicBezTo>
                </a:path>
              </a:pathLst>
            </a:custGeom>
            <a:noFill/>
            <a:ln w="28440">
              <a:solidFill>
                <a:srgbClr val="5c80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46280" y="2822400"/>
              <a:ext cx="2693880" cy="191880"/>
            </a:xfrm>
            <a:custGeom>
              <a:avLst/>
              <a:gdLst/>
              <a:ahLst/>
              <a:rect l="l" t="t" r="r" b="b"/>
              <a:pathLst>
                <a:path w="2860" h="204">
                  <a:moveTo>
                    <a:pt x="0" y="135"/>
                  </a:moveTo>
                  <a:cubicBezTo>
                    <a:pt x="145" y="143"/>
                    <a:pt x="599" y="204"/>
                    <a:pt x="868" y="183"/>
                  </a:cubicBezTo>
                  <a:cubicBezTo>
                    <a:pt x="1137" y="162"/>
                    <a:pt x="1284" y="22"/>
                    <a:pt x="1616" y="11"/>
                  </a:cubicBezTo>
                  <a:cubicBezTo>
                    <a:pt x="1948" y="0"/>
                    <a:pt x="2601" y="97"/>
                    <a:pt x="2860" y="119"/>
                  </a:cubicBezTo>
                </a:path>
              </a:pathLst>
            </a:custGeom>
            <a:noFill/>
            <a:ln w="28440">
              <a:solidFill>
                <a:srgbClr val="d2dc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928880" y="2038320"/>
            <a:ext cx="2445840" cy="961560"/>
            <a:chOff x="1928880" y="2038320"/>
            <a:chExt cx="2445840" cy="961560"/>
          </a:xfrm>
        </p:grpSpPr>
        <p:graphicFrame>
          <p:nvGraphicFramePr>
            <p:cNvPr id="467" name=""/>
            <p:cNvGraphicFramePr/>
            <p:nvPr/>
          </p:nvGraphicFramePr>
          <p:xfrm>
            <a:off x="3418560" y="2129760"/>
            <a:ext cx="530640" cy="377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18560" y="2129760"/>
                      <a:ext cx="530640" cy="37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3949200" y="2038320"/>
            <a:ext cx="425520" cy="302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49200" y="2038320"/>
                      <a:ext cx="425520" cy="30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2725560" y="2273040"/>
            <a:ext cx="692640" cy="492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725560" y="2273040"/>
                      <a:ext cx="692640" cy="49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"/>
            <p:cNvGraphicFramePr/>
            <p:nvPr/>
          </p:nvGraphicFramePr>
          <p:xfrm>
            <a:off x="1928880" y="2434320"/>
            <a:ext cx="796680" cy="565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928880" y="2434320"/>
                      <a:ext cx="796680" cy="56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5" name=""/>
          <p:cNvGrpSpPr/>
          <p:nvPr/>
        </p:nvGrpSpPr>
        <p:grpSpPr>
          <a:xfrm>
            <a:off x="4851360" y="2557440"/>
            <a:ext cx="1325520" cy="776160"/>
            <a:chOff x="4851360" y="2557440"/>
            <a:chExt cx="1325520" cy="776160"/>
          </a:xfrm>
        </p:grpSpPr>
        <p:graphicFrame>
          <p:nvGraphicFramePr>
            <p:cNvPr id="476" name=""/>
            <p:cNvGraphicFramePr/>
            <p:nvPr/>
          </p:nvGraphicFramePr>
          <p:xfrm>
            <a:off x="4851360" y="2557440"/>
            <a:ext cx="1325520" cy="776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851360" y="2557440"/>
                      <a:ext cx="13255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"/>
            <p:cNvSpPr/>
            <p:nvPr/>
          </p:nvSpPr>
          <p:spPr>
            <a:xfrm>
              <a:off x="5223960" y="2816280"/>
              <a:ext cx="6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28600" y="1487520"/>
            <a:ext cx="3276360" cy="722160"/>
            <a:chOff x="228600" y="1487520"/>
            <a:chExt cx="3276360" cy="722160"/>
          </a:xfrm>
        </p:grpSpPr>
        <p:sp>
          <p:nvSpPr>
            <p:cNvPr id="480" name=""/>
            <p:cNvSpPr/>
            <p:nvPr/>
          </p:nvSpPr>
          <p:spPr>
            <a:xfrm>
              <a:off x="228600" y="1487520"/>
              <a:ext cx="3276360" cy="722160"/>
            </a:xfrm>
            <a:prstGeom prst="roundRect">
              <a:avLst>
                <a:gd name="adj" fmla="val 16667"/>
              </a:avLst>
            </a:prstGeom>
            <a:solidFill>
              <a:srgbClr val="9b9bff"/>
            </a:solidFill>
            <a:ln w="9360">
              <a:solidFill>
                <a:srgbClr val="bebebe"/>
              </a:solidFill>
              <a:miter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18"/>
            <a:srcRect l="6668" t="5951" r="6668" b="8927"/>
            <a:stretch/>
          </p:blipFill>
          <p:spPr>
            <a:xfrm>
              <a:off x="474480" y="1542960"/>
              <a:ext cx="114300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728720" y="1563480"/>
              <a:ext cx="16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UTM 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562720" y="5145120"/>
            <a:ext cx="3276360" cy="722160"/>
            <a:chOff x="5562720" y="5145120"/>
            <a:chExt cx="3276360" cy="722160"/>
          </a:xfrm>
        </p:grpSpPr>
        <p:sp>
          <p:nvSpPr>
            <p:cNvPr id="484" name=""/>
            <p:cNvSpPr/>
            <p:nvPr/>
          </p:nvSpPr>
          <p:spPr>
            <a:xfrm>
              <a:off x="5562720" y="5145120"/>
              <a:ext cx="3276360" cy="722160"/>
            </a:xfrm>
            <a:prstGeom prst="roundRect">
              <a:avLst>
                <a:gd name="adj" fmla="val 16667"/>
              </a:avLst>
            </a:prstGeom>
            <a:solidFill>
              <a:srgbClr val="ded900">
                <a:alpha val="65000"/>
              </a:srgbClr>
            </a:solidFill>
            <a:ln w="9360">
              <a:solidFill>
                <a:srgbClr val="bebebe"/>
              </a:solidFill>
              <a:miter/>
            </a:ln>
            <a:effectLst>
              <a:outerShdw dist="17819" dir="2700000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62840" y="531072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U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19"/>
            <a:stretch/>
          </p:blipFill>
          <p:spPr>
            <a:xfrm>
              <a:off x="5791320" y="5297400"/>
              <a:ext cx="1218960" cy="39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00"/>
              </a:outerShdw>
            </a:effectLst>
          </p:spPr>
        </p:pic>
      </p:grpSp>
      <p:grpSp>
        <p:nvGrpSpPr>
          <p:cNvPr id="487" name=""/>
          <p:cNvGrpSpPr/>
          <p:nvPr/>
        </p:nvGrpSpPr>
        <p:grpSpPr>
          <a:xfrm>
            <a:off x="838080" y="5373720"/>
            <a:ext cx="3276720" cy="722160"/>
            <a:chOff x="838080" y="5373720"/>
            <a:chExt cx="3276720" cy="722160"/>
          </a:xfrm>
        </p:grpSpPr>
        <p:sp>
          <p:nvSpPr>
            <p:cNvPr id="488" name=""/>
            <p:cNvSpPr/>
            <p:nvPr/>
          </p:nvSpPr>
          <p:spPr>
            <a:xfrm>
              <a:off x="838080" y="5373720"/>
              <a:ext cx="3276720" cy="7221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5724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4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20"/>
            <a:stretch/>
          </p:blipFill>
          <p:spPr>
            <a:xfrm>
              <a:off x="1042920" y="5449680"/>
              <a:ext cx="1047960" cy="62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2133720" y="5575680"/>
              <a:ext cx="1981080" cy="368280"/>
            </a:xfrm>
            <a:prstGeom prst="re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N-1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D688-AB7C-4F40-AD62-21491EF9D5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201600"/>
            <a:ext cx="73915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eck Point NGX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10280" cy="49957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1887480" y="2117880"/>
            <a:ext cx="5716800" cy="34430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1790640" y="2050920"/>
            <a:ext cx="5870520" cy="35625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1917720" y="3486240"/>
            <a:ext cx="3363840" cy="1927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1560600" y="4943520"/>
            <a:ext cx="2973240" cy="18446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4908600" y="1547640"/>
            <a:ext cx="2968560" cy="142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1486080" y="1917720"/>
            <a:ext cx="6352920" cy="3483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1981080" y="1955880"/>
            <a:ext cx="5845320" cy="31813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9"/>
          <a:stretch/>
        </p:blipFill>
        <p:spPr>
          <a:xfrm>
            <a:off x="2152800" y="2879640"/>
            <a:ext cx="5402160" cy="27622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0"/>
          <a:stretch/>
        </p:blipFill>
        <p:spPr>
          <a:xfrm>
            <a:off x="2311560" y="3314880"/>
            <a:ext cx="3678120" cy="23176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04920" y="5613480"/>
            <a:ext cx="1511280" cy="3070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beb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tal 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65880" y="1962000"/>
            <a:ext cx="1511280" cy="5202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beb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iversal 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3280" y="1905120"/>
            <a:ext cx="1511280" cy="5202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beb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ifie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NGX - The Only Platform to Offer a Unified Security Architecture"/>
          <p:cNvPicPr/>
          <p:nvPr/>
        </p:nvPicPr>
        <p:blipFill>
          <a:blip r:embed="rId11"/>
          <a:stretch/>
        </p:blipFill>
        <p:spPr>
          <a:xfrm>
            <a:off x="7248600" y="5764320"/>
            <a:ext cx="1092240" cy="3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81B3-CA70-481D-8375-B8D9549990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143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нтегрированное централизованное управление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25909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-1/SM-1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495680" y="1295280"/>
            <a:ext cx="1143000" cy="1676160"/>
            <a:chOff x="4495680" y="1295280"/>
            <a:chExt cx="1143000" cy="1676160"/>
          </a:xfrm>
        </p:grpSpPr>
        <p:pic>
          <p:nvPicPr>
            <p:cNvPr id="509" name="" descr=""/>
            <p:cNvPicPr/>
            <p:nvPr/>
          </p:nvPicPr>
          <p:blipFill>
            <a:blip r:embed="rId1"/>
            <a:stretch/>
          </p:blipFill>
          <p:spPr>
            <a:xfrm>
              <a:off x="4647960" y="1676160"/>
              <a:ext cx="8380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4495680" y="12952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800240" y="2133360"/>
              <a:ext cx="152640" cy="838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2" name=""/>
          <p:cNvGraphicFramePr/>
          <p:nvPr/>
        </p:nvGraphicFramePr>
        <p:xfrm>
          <a:off x="3733920" y="2895480"/>
          <a:ext cx="1712880" cy="17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895480"/>
                    <a:ext cx="17128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4" name=""/>
          <p:cNvGrpSpPr/>
          <p:nvPr/>
        </p:nvGrpSpPr>
        <p:grpSpPr>
          <a:xfrm>
            <a:off x="5294160" y="1219320"/>
            <a:ext cx="3316320" cy="1752120"/>
            <a:chOff x="5294160" y="1219320"/>
            <a:chExt cx="3316320" cy="1752120"/>
          </a:xfrm>
        </p:grpSpPr>
        <p:sp>
          <p:nvSpPr>
            <p:cNvPr id="515" name=""/>
            <p:cNvSpPr/>
            <p:nvPr/>
          </p:nvSpPr>
          <p:spPr>
            <a:xfrm flipV="1">
              <a:off x="5294160" y="2361960"/>
              <a:ext cx="232596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6361200" y="1219320"/>
              <a:ext cx="2249280" cy="1371600"/>
              <a:chOff x="6361200" y="1219320"/>
              <a:chExt cx="2249280" cy="1371600"/>
            </a:xfrm>
          </p:grpSpPr>
          <p:pic>
            <p:nvPicPr>
              <p:cNvPr id="5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6480" y="1219320"/>
                <a:ext cx="9540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6361200" y="160020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reWall-1 G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5205240" y="3048120"/>
            <a:ext cx="3862440" cy="1143000"/>
            <a:chOff x="5205240" y="3048120"/>
            <a:chExt cx="3862440" cy="1143000"/>
          </a:xfrm>
        </p:grpSpPr>
        <p:sp>
          <p:nvSpPr>
            <p:cNvPr id="520" name=""/>
            <p:cNvSpPr/>
            <p:nvPr/>
          </p:nvSpPr>
          <p:spPr>
            <a:xfrm>
              <a:off x="5943600" y="31240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/FW-1 VS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5240" y="3454560"/>
              <a:ext cx="2338560" cy="50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29680" y="3308400"/>
              <a:ext cx="73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A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EEE 802.1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7543800" y="3048120"/>
              <a:ext cx="846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"/>
          <p:cNvGrpSpPr/>
          <p:nvPr/>
        </p:nvGrpSpPr>
        <p:grpSpPr>
          <a:xfrm>
            <a:off x="1219320" y="3048120"/>
            <a:ext cx="2514240" cy="1447560"/>
            <a:chOff x="1219320" y="3048120"/>
            <a:chExt cx="2514240" cy="1447560"/>
          </a:xfrm>
        </p:grpSpPr>
        <p:sp>
          <p:nvSpPr>
            <p:cNvPr id="525" name=""/>
            <p:cNvSpPr/>
            <p:nvPr/>
          </p:nvSpPr>
          <p:spPr>
            <a:xfrm>
              <a:off x="1219320" y="38797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314964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U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514240" y="4140360"/>
              <a:ext cx="1219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38280" y="3378240"/>
              <a:ext cx="1219320" cy="304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1981080" y="3809880"/>
            <a:ext cx="511200" cy="685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981080" y="3809880"/>
                      <a:ext cx="5112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"/>
            <p:cNvGraphicFramePr/>
            <p:nvPr/>
          </p:nvGraphicFramePr>
          <p:xfrm>
            <a:off x="1905120" y="3048120"/>
            <a:ext cx="527040" cy="685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05120" y="3048120"/>
                      <a:ext cx="5270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33" name=""/>
          <p:cNvGraphicFramePr/>
          <p:nvPr/>
        </p:nvGraphicFramePr>
        <p:xfrm>
          <a:off x="3657600" y="5791320"/>
          <a:ext cx="1295280" cy="53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5791320"/>
                    <a:ext cx="1295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523880" y="5943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fe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895480" y="4572000"/>
            <a:ext cx="1067040" cy="1193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2"/>
          <a:stretch/>
        </p:blipFill>
        <p:spPr>
          <a:xfrm>
            <a:off x="3809880" y="5867280"/>
            <a:ext cx="914400" cy="417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96252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n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438280" y="4368600"/>
            <a:ext cx="1295640" cy="6858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362320" y="5715000"/>
            <a:ext cx="837720" cy="667800"/>
            <a:chOff x="2362320" y="5715000"/>
            <a:chExt cx="837720" cy="667800"/>
          </a:xfrm>
        </p:grpSpPr>
        <p:graphicFrame>
          <p:nvGraphicFramePr>
            <p:cNvPr id="541" name=""/>
            <p:cNvGraphicFramePr/>
            <p:nvPr/>
          </p:nvGraphicFramePr>
          <p:xfrm>
            <a:off x="2362320" y="5739120"/>
            <a:ext cx="837720" cy="643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362320" y="5739120"/>
                      <a:ext cx="837720" cy="64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3" name="" descr=""/>
            <p:cNvPicPr/>
            <p:nvPr/>
          </p:nvPicPr>
          <p:blipFill>
            <a:blip r:embed="rId15"/>
            <a:stretch/>
          </p:blipFill>
          <p:spPr>
            <a:xfrm>
              <a:off x="2446200" y="5715000"/>
              <a:ext cx="66996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"/>
          <p:cNvGrpSpPr/>
          <p:nvPr/>
        </p:nvGrpSpPr>
        <p:grpSpPr>
          <a:xfrm>
            <a:off x="4800600" y="4648320"/>
            <a:ext cx="2209680" cy="1956240"/>
            <a:chOff x="4800600" y="4648320"/>
            <a:chExt cx="2209680" cy="1956240"/>
          </a:xfrm>
        </p:grpSpPr>
        <p:sp>
          <p:nvSpPr>
            <p:cNvPr id="545" name=""/>
            <p:cNvSpPr/>
            <p:nvPr/>
          </p:nvSpPr>
          <p:spPr>
            <a:xfrm>
              <a:off x="4800600" y="4648320"/>
              <a:ext cx="1523880" cy="1269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62720" y="62672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Sp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6248520" y="5613480"/>
              <a:ext cx="761760" cy="709560"/>
              <a:chOff x="6248520" y="5613480"/>
              <a:chExt cx="761760" cy="709560"/>
            </a:xfrm>
          </p:grpSpPr>
          <p:graphicFrame>
            <p:nvGraphicFramePr>
              <p:cNvPr id="548" name=""/>
              <p:cNvGraphicFramePr/>
              <p:nvPr/>
            </p:nvGraphicFramePr>
            <p:xfrm>
              <a:off x="6248520" y="5820120"/>
              <a:ext cx="761760" cy="502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549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6248520" y="5820120"/>
                        <a:ext cx="761760" cy="50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0" name=""/>
              <p:cNvGraphicFramePr/>
              <p:nvPr/>
            </p:nvGraphicFramePr>
            <p:xfrm>
              <a:off x="6404040" y="5613480"/>
              <a:ext cx="420480" cy="5637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551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404040" y="5613480"/>
                        <a:ext cx="420480" cy="56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2" name=""/>
          <p:cNvSpPr/>
          <p:nvPr/>
        </p:nvSpPr>
        <p:spPr>
          <a:xfrm>
            <a:off x="4267080" y="4597560"/>
            <a:ext cx="76320" cy="106668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800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e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981080" y="4952880"/>
            <a:ext cx="533160" cy="685440"/>
            <a:chOff x="1981080" y="4952880"/>
            <a:chExt cx="533160" cy="685440"/>
          </a:xfrm>
        </p:grpSpPr>
        <p:graphicFrame>
          <p:nvGraphicFramePr>
            <p:cNvPr id="555" name=""/>
            <p:cNvGraphicFramePr/>
            <p:nvPr/>
          </p:nvGraphicFramePr>
          <p:xfrm>
            <a:off x="1981080" y="5306040"/>
            <a:ext cx="533160" cy="3322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981080" y="5306040"/>
                      <a:ext cx="533160" cy="33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2052000" y="4952880"/>
            <a:ext cx="388440" cy="6116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052000" y="4952880"/>
                      <a:ext cx="388440" cy="61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9" name=""/>
          <p:cNvGrpSpPr/>
          <p:nvPr/>
        </p:nvGrpSpPr>
        <p:grpSpPr>
          <a:xfrm>
            <a:off x="1447920" y="1371600"/>
            <a:ext cx="2209680" cy="1929960"/>
            <a:chOff x="1447920" y="1371600"/>
            <a:chExt cx="2209680" cy="1929960"/>
          </a:xfrm>
        </p:grpSpPr>
        <p:sp>
          <p:nvSpPr>
            <p:cNvPr id="560" name=""/>
            <p:cNvSpPr/>
            <p:nvPr/>
          </p:nvSpPr>
          <p:spPr>
            <a:xfrm>
              <a:off x="1447920" y="1371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-1 MD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2320" y="2463480"/>
              <a:ext cx="1295280" cy="8380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24"/>
            <a:stretch/>
          </p:blipFill>
          <p:spPr>
            <a:xfrm>
              <a:off x="1447920" y="1692000"/>
              <a:ext cx="1218960" cy="1095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1523880" y="1904760"/>
            <a:ext cx="609840" cy="377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523880" y="1904760"/>
                      <a:ext cx="60984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5" name=""/>
          <p:cNvGrpSpPr/>
          <p:nvPr/>
        </p:nvGrpSpPr>
        <p:grpSpPr>
          <a:xfrm>
            <a:off x="5105520" y="3962520"/>
            <a:ext cx="3809520" cy="2437920"/>
            <a:chOff x="5105520" y="3962520"/>
            <a:chExt cx="3809520" cy="2437920"/>
          </a:xfrm>
        </p:grpSpPr>
        <p:sp>
          <p:nvSpPr>
            <p:cNvPr id="566" name=""/>
            <p:cNvSpPr/>
            <p:nvPr/>
          </p:nvSpPr>
          <p:spPr>
            <a:xfrm>
              <a:off x="5410080" y="39625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4216320"/>
              <a:ext cx="2361960" cy="889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412040" y="4335480"/>
              <a:ext cx="1503000" cy="2064960"/>
              <a:chOff x="7412040" y="4335480"/>
              <a:chExt cx="1503000" cy="2064960"/>
            </a:xfrm>
          </p:grpSpPr>
          <p:sp>
            <p:nvSpPr>
              <p:cNvPr id="569" name=""/>
              <p:cNvSpPr/>
              <p:nvPr/>
            </p:nvSpPr>
            <p:spPr>
              <a:xfrm>
                <a:off x="7930080" y="5546520"/>
                <a:ext cx="363960" cy="24228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749720" y="4880880"/>
                <a:ext cx="647280" cy="362160"/>
              </a:xfrm>
              <a:custGeom>
                <a:avLst/>
                <a:gdLst/>
                <a:ahLst/>
                <a:rect l="l" t="t" r="r" b="b"/>
                <a:pathLst>
                  <a:path w="600" h="333">
                    <a:moveTo>
                      <a:pt x="0" y="333"/>
                    </a:moveTo>
                    <a:cubicBezTo>
                      <a:pt x="72" y="287"/>
                      <a:pt x="335" y="120"/>
                      <a:pt x="431" y="60"/>
                    </a:cubicBezTo>
                    <a:cubicBezTo>
                      <a:pt x="527" y="0"/>
                      <a:pt x="565" y="82"/>
                      <a:pt x="600" y="87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26760" y="4335480"/>
                <a:ext cx="570240" cy="727560"/>
              </a:xfrm>
              <a:custGeom>
                <a:avLst/>
                <a:gdLst/>
                <a:ahLst/>
                <a:rect l="l" t="t" r="r" b="b"/>
                <a:pathLst>
                  <a:path w="600" h="348">
                    <a:moveTo>
                      <a:pt x="0" y="348"/>
                    </a:moveTo>
                    <a:cubicBezTo>
                      <a:pt x="77" y="300"/>
                      <a:pt x="366" y="120"/>
                      <a:pt x="462" y="60"/>
                    </a:cubicBezTo>
                    <a:cubicBezTo>
                      <a:pt x="558" y="0"/>
                      <a:pt x="571" y="93"/>
                      <a:pt x="600" y="102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72" name=""/>
              <p:cNvGraphicFramePr/>
              <p:nvPr/>
            </p:nvGraphicFramePr>
            <p:xfrm>
              <a:off x="8555760" y="6140520"/>
              <a:ext cx="187200" cy="1789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573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8555760" y="6140520"/>
                        <a:ext cx="187200" cy="17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74" name=""/>
              <p:cNvGraphicFramePr/>
              <p:nvPr/>
            </p:nvGraphicFramePr>
            <p:xfrm>
              <a:off x="8675640" y="6215760"/>
              <a:ext cx="187200" cy="1771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57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675640" y="6215760"/>
                        <a:ext cx="187200" cy="17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76" name=""/>
              <p:cNvSpPr/>
              <p:nvPr/>
            </p:nvSpPr>
            <p:spPr>
              <a:xfrm>
                <a:off x="8382240" y="6272280"/>
                <a:ext cx="218880" cy="12816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468" y="168"/>
                    </a:moveTo>
                    <a:cubicBezTo>
                      <a:pt x="435" y="172"/>
                      <a:pt x="381" y="264"/>
                      <a:pt x="264" y="192"/>
                    </a:cubicBezTo>
                    <a:cubicBezTo>
                      <a:pt x="147" y="120"/>
                      <a:pt x="55" y="4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48560" y="6282720"/>
                <a:ext cx="165600" cy="104760"/>
              </a:xfrm>
              <a:custGeom>
                <a:avLst/>
                <a:gdLst/>
                <a:ahLst/>
                <a:rect l="l" t="t" r="r" b="b"/>
                <a:pathLst>
                  <a:path w="352" h="215">
                    <a:moveTo>
                      <a:pt x="352" y="147"/>
                    </a:moveTo>
                    <a:cubicBezTo>
                      <a:pt x="329" y="156"/>
                      <a:pt x="269" y="215"/>
                      <a:pt x="214" y="204"/>
                    </a:cubicBezTo>
                    <a:cubicBezTo>
                      <a:pt x="167" y="177"/>
                      <a:pt x="42" y="114"/>
                      <a:pt x="19" y="82"/>
                    </a:cubicBezTo>
                    <a:cubicBezTo>
                      <a:pt x="0" y="48"/>
                      <a:pt x="83" y="17"/>
                      <a:pt x="10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78" name=""/>
              <p:cNvGraphicFramePr/>
              <p:nvPr/>
            </p:nvGraphicFramePr>
            <p:xfrm>
              <a:off x="8269200" y="6031080"/>
              <a:ext cx="253440" cy="3441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579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8269200" y="6031080"/>
                        <a:ext cx="253440" cy="34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0" name=""/>
              <p:cNvGraphicFramePr/>
              <p:nvPr/>
            </p:nvGraphicFramePr>
            <p:xfrm>
              <a:off x="8555760" y="5716440"/>
              <a:ext cx="187200" cy="17856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581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8555760" y="5716440"/>
                        <a:ext cx="187200" cy="17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2" name=""/>
              <p:cNvGraphicFramePr/>
              <p:nvPr/>
            </p:nvGraphicFramePr>
            <p:xfrm>
              <a:off x="8675640" y="5793120"/>
              <a:ext cx="187200" cy="1756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583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8675640" y="5793120"/>
                        <a:ext cx="18720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4" name=""/>
              <p:cNvSpPr/>
              <p:nvPr/>
            </p:nvSpPr>
            <p:spPr>
              <a:xfrm>
                <a:off x="8382240" y="5847840"/>
                <a:ext cx="218880" cy="1285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468" y="168"/>
                    </a:moveTo>
                    <a:cubicBezTo>
                      <a:pt x="435" y="172"/>
                      <a:pt x="381" y="264"/>
                      <a:pt x="264" y="192"/>
                    </a:cubicBezTo>
                    <a:cubicBezTo>
                      <a:pt x="147" y="120"/>
                      <a:pt x="55" y="4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48560" y="5858280"/>
                <a:ext cx="165600" cy="106560"/>
              </a:xfrm>
              <a:custGeom>
                <a:avLst/>
                <a:gdLst/>
                <a:ahLst/>
                <a:rect l="l" t="t" r="r" b="b"/>
                <a:pathLst>
                  <a:path w="352" h="215">
                    <a:moveTo>
                      <a:pt x="352" y="147"/>
                    </a:moveTo>
                    <a:cubicBezTo>
                      <a:pt x="329" y="156"/>
                      <a:pt x="269" y="215"/>
                      <a:pt x="214" y="204"/>
                    </a:cubicBezTo>
                    <a:cubicBezTo>
                      <a:pt x="167" y="177"/>
                      <a:pt x="42" y="114"/>
                      <a:pt x="19" y="82"/>
                    </a:cubicBezTo>
                    <a:cubicBezTo>
                      <a:pt x="0" y="48"/>
                      <a:pt x="83" y="17"/>
                      <a:pt x="10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86" name=""/>
              <p:cNvGraphicFramePr/>
              <p:nvPr/>
            </p:nvGraphicFramePr>
            <p:xfrm>
              <a:off x="8269200" y="5606640"/>
              <a:ext cx="253440" cy="34452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587" name="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8269200" y="5606640"/>
                        <a:ext cx="253440" cy="34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8" name=""/>
              <p:cNvGraphicFramePr/>
              <p:nvPr/>
            </p:nvGraphicFramePr>
            <p:xfrm>
              <a:off x="8580600" y="5346360"/>
              <a:ext cx="186840" cy="17892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589" name="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8580600" y="5346360"/>
                        <a:ext cx="186840" cy="17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0" name=""/>
              <p:cNvGraphicFramePr/>
              <p:nvPr/>
            </p:nvGraphicFramePr>
            <p:xfrm>
              <a:off x="8700120" y="5423760"/>
              <a:ext cx="187200" cy="1756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591" name="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8700120" y="5423760"/>
                        <a:ext cx="18720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2" name=""/>
              <p:cNvSpPr/>
              <p:nvPr/>
            </p:nvSpPr>
            <p:spPr>
              <a:xfrm>
                <a:off x="8406720" y="5478120"/>
                <a:ext cx="218880" cy="12816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468" y="168"/>
                    </a:moveTo>
                    <a:cubicBezTo>
                      <a:pt x="435" y="172"/>
                      <a:pt x="381" y="264"/>
                      <a:pt x="264" y="192"/>
                    </a:cubicBezTo>
                    <a:cubicBezTo>
                      <a:pt x="147" y="120"/>
                      <a:pt x="55" y="4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573760" y="5488560"/>
                <a:ext cx="165240" cy="106200"/>
              </a:xfrm>
              <a:custGeom>
                <a:avLst/>
                <a:gdLst/>
                <a:ahLst/>
                <a:rect l="l" t="t" r="r" b="b"/>
                <a:pathLst>
                  <a:path w="352" h="215">
                    <a:moveTo>
                      <a:pt x="352" y="147"/>
                    </a:moveTo>
                    <a:cubicBezTo>
                      <a:pt x="329" y="156"/>
                      <a:pt x="269" y="215"/>
                      <a:pt x="214" y="204"/>
                    </a:cubicBezTo>
                    <a:cubicBezTo>
                      <a:pt x="167" y="177"/>
                      <a:pt x="42" y="114"/>
                      <a:pt x="19" y="82"/>
                    </a:cubicBezTo>
                    <a:cubicBezTo>
                      <a:pt x="0" y="48"/>
                      <a:pt x="83" y="17"/>
                      <a:pt x="10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94" name=""/>
              <p:cNvGraphicFramePr/>
              <p:nvPr/>
            </p:nvGraphicFramePr>
            <p:xfrm>
              <a:off x="8294040" y="5237280"/>
              <a:ext cx="253080" cy="34416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595" name="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8294040" y="5237280"/>
                        <a:ext cx="253080" cy="34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6" name=""/>
              <p:cNvGraphicFramePr/>
              <p:nvPr/>
            </p:nvGraphicFramePr>
            <p:xfrm>
              <a:off x="8580600" y="4923720"/>
              <a:ext cx="186840" cy="17712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597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8580600" y="4923720"/>
                        <a:ext cx="186840" cy="17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8" name=""/>
              <p:cNvGraphicFramePr/>
              <p:nvPr/>
            </p:nvGraphicFramePr>
            <p:xfrm>
              <a:off x="8728200" y="4999320"/>
              <a:ext cx="186840" cy="1756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8728200" y="4999320"/>
                        <a:ext cx="18684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0" name=""/>
              <p:cNvSpPr/>
              <p:nvPr/>
            </p:nvSpPr>
            <p:spPr>
              <a:xfrm>
                <a:off x="8406720" y="5053680"/>
                <a:ext cx="218880" cy="1285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468" y="168"/>
                    </a:moveTo>
                    <a:cubicBezTo>
                      <a:pt x="435" y="172"/>
                      <a:pt x="381" y="264"/>
                      <a:pt x="264" y="192"/>
                    </a:cubicBezTo>
                    <a:cubicBezTo>
                      <a:pt x="147" y="120"/>
                      <a:pt x="55" y="4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573760" y="5064120"/>
                <a:ext cx="165240" cy="106200"/>
              </a:xfrm>
              <a:custGeom>
                <a:avLst/>
                <a:gdLst/>
                <a:ahLst/>
                <a:rect l="l" t="t" r="r" b="b"/>
                <a:pathLst>
                  <a:path w="352" h="215">
                    <a:moveTo>
                      <a:pt x="352" y="147"/>
                    </a:moveTo>
                    <a:cubicBezTo>
                      <a:pt x="329" y="156"/>
                      <a:pt x="269" y="215"/>
                      <a:pt x="214" y="204"/>
                    </a:cubicBezTo>
                    <a:cubicBezTo>
                      <a:pt x="167" y="177"/>
                      <a:pt x="42" y="114"/>
                      <a:pt x="19" y="82"/>
                    </a:cubicBezTo>
                    <a:cubicBezTo>
                      <a:pt x="0" y="48"/>
                      <a:pt x="83" y="17"/>
                      <a:pt x="10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2" name=""/>
              <p:cNvGraphicFramePr/>
              <p:nvPr/>
            </p:nvGraphicFramePr>
            <p:xfrm>
              <a:off x="8294040" y="4812840"/>
              <a:ext cx="253080" cy="344520"/>
            </p:xfrm>
            <a:graphic>
              <a:graphicData uri="http://schemas.openxmlformats.org/presentationml/2006/ole">
                <p:oleObj r:id="rId49" spid="">
                  <p:embed/>
                  <p:pic>
                    <p:nvPicPr>
                      <p:cNvPr id="603" name="" descr=""/>
                      <p:cNvPicPr/>
                      <p:nvPr/>
                    </p:nvPicPr>
                    <p:blipFill>
                      <a:blip r:embed="rId50"/>
                      <a:stretch/>
                    </p:blipFill>
                    <p:spPr>
                      <a:xfrm>
                        <a:off x="8294040" y="4812840"/>
                        <a:ext cx="253080" cy="34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4" name=""/>
              <p:cNvGraphicFramePr/>
              <p:nvPr/>
            </p:nvGraphicFramePr>
            <p:xfrm>
              <a:off x="8607960" y="4499280"/>
              <a:ext cx="185760" cy="177480"/>
            </p:xfrm>
            <a:graphic>
              <a:graphicData uri="http://schemas.openxmlformats.org/presentationml/2006/ole">
                <p:oleObj r:id="rId51" spid="">
                  <p:embed/>
                  <p:pic>
                    <p:nvPicPr>
                      <p:cNvPr id="605" name="" descr=""/>
                      <p:cNvPicPr/>
                      <p:nvPr/>
                    </p:nvPicPr>
                    <p:blipFill>
                      <a:blip r:embed="rId52"/>
                      <a:stretch/>
                    </p:blipFill>
                    <p:spPr>
                      <a:xfrm>
                        <a:off x="8607960" y="4499280"/>
                        <a:ext cx="185760" cy="17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6" name=""/>
              <p:cNvGraphicFramePr/>
              <p:nvPr/>
            </p:nvGraphicFramePr>
            <p:xfrm>
              <a:off x="8728200" y="4574520"/>
              <a:ext cx="186840" cy="177480"/>
            </p:xfrm>
            <a:graphic>
              <a:graphicData uri="http://schemas.openxmlformats.org/presentationml/2006/ole">
                <p:oleObj r:id="rId53" spid="">
                  <p:embed/>
                  <p:pic>
                    <p:nvPicPr>
                      <p:cNvPr id="607" name="" descr=""/>
                      <p:cNvPicPr/>
                      <p:nvPr/>
                    </p:nvPicPr>
                    <p:blipFill>
                      <a:blip r:embed="rId54"/>
                      <a:stretch/>
                    </p:blipFill>
                    <p:spPr>
                      <a:xfrm>
                        <a:off x="8728200" y="4574520"/>
                        <a:ext cx="186840" cy="17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8" name=""/>
              <p:cNvSpPr/>
              <p:nvPr/>
            </p:nvSpPr>
            <p:spPr>
              <a:xfrm>
                <a:off x="8433000" y="4631040"/>
                <a:ext cx="219960" cy="1285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468" y="168"/>
                    </a:moveTo>
                    <a:cubicBezTo>
                      <a:pt x="435" y="172"/>
                      <a:pt x="381" y="264"/>
                      <a:pt x="264" y="192"/>
                    </a:cubicBezTo>
                    <a:cubicBezTo>
                      <a:pt x="147" y="120"/>
                      <a:pt x="55" y="4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82640" y="5182560"/>
                <a:ext cx="362160" cy="24228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601120" y="4641480"/>
                <a:ext cx="165240" cy="104760"/>
              </a:xfrm>
              <a:custGeom>
                <a:avLst/>
                <a:gdLst/>
                <a:ahLst/>
                <a:rect l="l" t="t" r="r" b="b"/>
                <a:pathLst>
                  <a:path w="352" h="215">
                    <a:moveTo>
                      <a:pt x="352" y="147"/>
                    </a:moveTo>
                    <a:cubicBezTo>
                      <a:pt x="329" y="156"/>
                      <a:pt x="269" y="215"/>
                      <a:pt x="214" y="204"/>
                    </a:cubicBezTo>
                    <a:cubicBezTo>
                      <a:pt x="167" y="177"/>
                      <a:pt x="42" y="114"/>
                      <a:pt x="19" y="82"/>
                    </a:cubicBezTo>
                    <a:cubicBezTo>
                      <a:pt x="0" y="48"/>
                      <a:pt x="83" y="17"/>
                      <a:pt x="100" y="0"/>
                    </a:cubicBezTo>
                  </a:path>
                </a:pathLst>
              </a:custGeom>
              <a:noFill/>
              <a:ln w="190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8319960" y="4389840"/>
              <a:ext cx="253440" cy="344520"/>
            </p:xfrm>
            <a:graphic>
              <a:graphicData uri="http://schemas.openxmlformats.org/presentationml/2006/ole">
                <p:oleObj r:id="rId55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56"/>
                      <a:stretch/>
                    </p:blipFill>
                    <p:spPr>
                      <a:xfrm>
                        <a:off x="8319960" y="4389840"/>
                        <a:ext cx="253440" cy="34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13" name=""/>
              <p:cNvGraphicFramePr/>
              <p:nvPr/>
            </p:nvGraphicFramePr>
            <p:xfrm>
              <a:off x="7412040" y="4880880"/>
              <a:ext cx="776880" cy="706680"/>
            </p:xfrm>
            <a:graphic>
              <a:graphicData uri="http://schemas.openxmlformats.org/presentationml/2006/ole">
                <p:oleObj r:id="rId57" spid="">
                  <p:embed/>
                  <p:pic>
                    <p:nvPicPr>
                      <p:cNvPr id="614" name="" descr=""/>
                      <p:cNvPicPr/>
                      <p:nvPr/>
                    </p:nvPicPr>
                    <p:blipFill>
                      <a:blip r:embed="rId58"/>
                      <a:stretch/>
                    </p:blipFill>
                    <p:spPr>
                      <a:xfrm>
                        <a:off x="7412040" y="4880880"/>
                        <a:ext cx="776880" cy="70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15" name=""/>
            <p:cNvSpPr/>
            <p:nvPr/>
          </p:nvSpPr>
          <p:spPr>
            <a:xfrm>
              <a:off x="7427880" y="5638680"/>
              <a:ext cx="8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BO or SMB GW Prof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A665-00A2-4AE3-BAF3-C859204C8ECD}" type="slidenum">
              <a:t>27</a:t>
            </a:fld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71240" y="1144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ное планировани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стиций в систему безопас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08080" y="1902960"/>
            <a:ext cx="347976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89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уйте преимущества согласованного многоуровневого под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е внед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4c80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уровень требует индивидуального подхода и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19640" y="2065320"/>
            <a:ext cx="1644480" cy="1644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6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80280" y="2070000"/>
            <a:ext cx="1644480" cy="1644840"/>
          </a:xfrm>
          <a:prstGeom prst="rect">
            <a:avLst/>
          </a:prstGeom>
          <a:gradFill rotWithShape="0">
            <a:gsLst>
              <a:gs pos="0">
                <a:srgbClr val="792182"/>
              </a:gs>
              <a:gs pos="50000">
                <a:srgbClr val="bf95c3"/>
              </a:gs>
              <a:gs pos="100000">
                <a:srgbClr val="792182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77040" y="4125960"/>
            <a:ext cx="1644480" cy="1644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686"/>
              </a:gs>
              <a:gs pos="100000">
                <a:srgbClr val="ff6600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24320" y="4130640"/>
            <a:ext cx="1644840" cy="1644840"/>
          </a:xfrm>
          <a:prstGeom prst="rect">
            <a:avLst/>
          </a:prstGeom>
          <a:gradFill rotWithShape="0">
            <a:gsLst>
              <a:gs pos="0">
                <a:srgbClr val="3ea538"/>
              </a:gs>
              <a:gs pos="50000">
                <a:srgbClr val="a3d3a0"/>
              </a:gs>
              <a:gs pos="100000">
                <a:srgbClr val="3ea538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imeter</a:t>
            </a: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anch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16400" y="2065320"/>
            <a:ext cx="1644840" cy="1644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a9d"/>
              </a:gs>
              <a:gs pos="100000">
                <a:srgbClr val="ffcc00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Есть ли возможность сегментации сети на зоны безопаснос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отвращение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аспространения «червей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орреляция данных о событиях безопасност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69120" y="4127400"/>
            <a:ext cx="1644480" cy="1644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c49d"/>
              </a:gs>
              <a:gs pos="100000">
                <a:srgbClr val="ff6600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Защита доступа к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S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 и интеграция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35480" y="4130640"/>
            <a:ext cx="1644480" cy="1644840"/>
          </a:xfrm>
          <a:prstGeom prst="rect">
            <a:avLst/>
          </a:prstGeom>
          <a:gradFill rotWithShape="0">
            <a:gsLst>
              <a:gs pos="0">
                <a:srgbClr val="3ea538"/>
              </a:gs>
              <a:gs pos="50000">
                <a:srgbClr val="b4dbb2"/>
              </a:gs>
              <a:gs pos="100000">
                <a:srgbClr val="3ea538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 anchorCtr="1">
            <a:noAutofit/>
          </a:bodyPr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Загружены ли последние обновления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Есть ли МЭ в каждом удаленном офисе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Защищены ли данные при передаче по каналам связи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89640" y="2063880"/>
            <a:ext cx="1644840" cy="16444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d9dcd"/>
              </a:gs>
              <a:gs pos="100000">
                <a:srgbClr val="800080"/>
              </a:gs>
            </a:gsLst>
            <a:lin ang="8100000"/>
          </a:gradFill>
          <a:ln w="19080">
            <a:solidFill>
              <a:srgbClr val="5c8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Есть ли система безопасности на каждом П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Центральное управление безопасностью П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ая защита от Троянского ПО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700000">
            <a:off x="5257080" y="2994480"/>
            <a:ext cx="1806480" cy="180504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90" y="7756"/>
                </a:lnTo>
                <a:lnTo>
                  <a:pt x="2590" y="9757"/>
                </a:lnTo>
                <a:lnTo>
                  <a:pt x="9757" y="9757"/>
                </a:lnTo>
                <a:lnTo>
                  <a:pt x="9757" y="2590"/>
                </a:lnTo>
                <a:lnTo>
                  <a:pt x="7756" y="2590"/>
                </a:lnTo>
                <a:lnTo>
                  <a:pt x="10800" y="0"/>
                </a:lnTo>
                <a:lnTo>
                  <a:pt x="13844" y="2590"/>
                </a:lnTo>
                <a:lnTo>
                  <a:pt x="11843" y="2590"/>
                </a:lnTo>
                <a:lnTo>
                  <a:pt x="11843" y="9757"/>
                </a:lnTo>
                <a:lnTo>
                  <a:pt x="19010" y="9757"/>
                </a:lnTo>
                <a:lnTo>
                  <a:pt x="19010" y="7756"/>
                </a:lnTo>
                <a:lnTo>
                  <a:pt x="21600" y="10800"/>
                </a:lnTo>
                <a:lnTo>
                  <a:pt x="19010" y="13844"/>
                </a:lnTo>
                <a:lnTo>
                  <a:pt x="19010" y="11843"/>
                </a:lnTo>
                <a:lnTo>
                  <a:pt x="11843" y="11843"/>
                </a:lnTo>
                <a:lnTo>
                  <a:pt x="11843" y="19010"/>
                </a:lnTo>
                <a:lnTo>
                  <a:pt x="13844" y="19010"/>
                </a:lnTo>
                <a:lnTo>
                  <a:pt x="10800" y="21600"/>
                </a:lnTo>
                <a:lnTo>
                  <a:pt x="7756" y="19010"/>
                </a:lnTo>
                <a:lnTo>
                  <a:pt x="9757" y="19010"/>
                </a:lnTo>
                <a:lnTo>
                  <a:pt x="9757" y="11843"/>
                </a:lnTo>
                <a:lnTo>
                  <a:pt x="2590" y="11843"/>
                </a:lnTo>
                <a:lnTo>
                  <a:pt x="2590" y="13844"/>
                </a:lnTo>
                <a:close/>
              </a:path>
            </a:pathLst>
          </a:custGeom>
          <a:gradFill rotWithShape="0">
            <a:gsLst>
              <a:gs pos="0">
                <a:srgbClr val="2a3b59">
                  <a:alpha val="70196"/>
                </a:srgbClr>
              </a:gs>
              <a:gs pos="50000">
                <a:srgbClr val="5c80c2">
                  <a:alpha val="70196"/>
                </a:srgbClr>
              </a:gs>
              <a:gs pos="100000">
                <a:srgbClr val="2a3b59">
                  <a:alpha val="70196"/>
                </a:srgbClr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33640" y="1582560"/>
            <a:ext cx="4673880" cy="4659480"/>
          </a:xfrm>
          <a:custGeom>
            <a:avLst/>
            <a:gdLst>
              <a:gd name="textAreaLeft" fmla="*/ 0 w 4673880"/>
              <a:gd name="textAreaRight" fmla="*/ 4674240 w 4673880"/>
              <a:gd name="textAreaTop" fmla="*/ 0 h 4659480"/>
              <a:gd name="textAreaBottom" fmla="*/ 4659840 h 465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28" y="3644"/>
                </a:lnTo>
                <a:lnTo>
                  <a:pt x="2128" y="9890"/>
                </a:lnTo>
                <a:lnTo>
                  <a:pt x="9890" y="9890"/>
                </a:lnTo>
                <a:lnTo>
                  <a:pt x="9890" y="2128"/>
                </a:lnTo>
                <a:lnTo>
                  <a:pt x="3644" y="2128"/>
                </a:lnTo>
                <a:lnTo>
                  <a:pt x="10800" y="0"/>
                </a:lnTo>
                <a:lnTo>
                  <a:pt x="17956" y="2128"/>
                </a:lnTo>
                <a:lnTo>
                  <a:pt x="11710" y="2128"/>
                </a:lnTo>
                <a:lnTo>
                  <a:pt x="11710" y="9890"/>
                </a:lnTo>
                <a:lnTo>
                  <a:pt x="19472" y="9890"/>
                </a:lnTo>
                <a:lnTo>
                  <a:pt x="19472" y="3644"/>
                </a:lnTo>
                <a:lnTo>
                  <a:pt x="21600" y="10800"/>
                </a:lnTo>
                <a:lnTo>
                  <a:pt x="19472" y="17956"/>
                </a:lnTo>
                <a:lnTo>
                  <a:pt x="19472" y="11710"/>
                </a:lnTo>
                <a:lnTo>
                  <a:pt x="11710" y="11710"/>
                </a:lnTo>
                <a:lnTo>
                  <a:pt x="11710" y="19472"/>
                </a:lnTo>
                <a:lnTo>
                  <a:pt x="17956" y="19472"/>
                </a:lnTo>
                <a:lnTo>
                  <a:pt x="10800" y="21600"/>
                </a:lnTo>
                <a:lnTo>
                  <a:pt x="3644" y="19472"/>
                </a:lnTo>
                <a:lnTo>
                  <a:pt x="9890" y="19472"/>
                </a:lnTo>
                <a:lnTo>
                  <a:pt x="9890" y="11710"/>
                </a:lnTo>
                <a:lnTo>
                  <a:pt x="2128" y="11710"/>
                </a:lnTo>
                <a:lnTo>
                  <a:pt x="2128" y="17956"/>
                </a:lnTo>
                <a:close/>
              </a:path>
            </a:pathLst>
          </a:custGeom>
          <a:gradFill rotWithShape="0">
            <a:gsLst>
              <a:gs pos="0">
                <a:srgbClr val="2a3b59"/>
              </a:gs>
              <a:gs pos="50000">
                <a:srgbClr val="5c80c2"/>
              </a:gs>
              <a:gs pos="100000">
                <a:srgbClr val="2a3b59"/>
              </a:gs>
            </a:gsLst>
            <a:lin ang="8100000"/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5454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48760" y="37609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еобходимость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5231160" y="2752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ктуальность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5137560" y="4810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остаточность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91880" y="3760920"/>
            <a:ext cx="28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ритичность внедрения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097160" y="3720240"/>
            <a:ext cx="4176720" cy="42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beb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оритет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недрен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F9CD-18F6-4D09-A210-EFADB4113A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шения для всех сегментов рынк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6237360"/>
            <a:ext cx="7416720" cy="36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ccff"/>
                </a:solidFill>
                <a:latin typeface="Arial"/>
                <a:ea typeface="Arial"/>
              </a:rPr>
              <a:t>Market Seg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059280" y="1844640"/>
            <a:ext cx="820080" cy="4273560"/>
            <a:chOff x="3059280" y="1844640"/>
            <a:chExt cx="820080" cy="4273560"/>
          </a:xfrm>
        </p:grpSpPr>
        <p:sp>
          <p:nvSpPr>
            <p:cNvPr id="636" name=""/>
            <p:cNvSpPr/>
            <p:nvPr/>
          </p:nvSpPr>
          <p:spPr>
            <a:xfrm>
              <a:off x="3249360" y="1844640"/>
              <a:ext cx="630000" cy="3800160"/>
            </a:xfrm>
            <a:prstGeom prst="rect">
              <a:avLst/>
            </a:prstGeom>
            <a:solidFill>
              <a:srgbClr val="cc3399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59280" y="5690520"/>
              <a:ext cx="691200" cy="427680"/>
            </a:xfrm>
            <a:prstGeom prst="rect">
              <a:avLst/>
            </a:prstGeom>
            <a:solidFill>
              <a:srgbClr val="cc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di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sin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8" name=""/>
            <p:cNvGraphicFramePr/>
            <p:nvPr/>
          </p:nvGraphicFramePr>
          <p:xfrm>
            <a:off x="3212280" y="5189040"/>
            <a:ext cx="64296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12280" y="5189040"/>
                      <a:ext cx="6429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0" name=""/>
          <p:cNvGrpSpPr/>
          <p:nvPr/>
        </p:nvGrpSpPr>
        <p:grpSpPr>
          <a:xfrm>
            <a:off x="2001960" y="1844640"/>
            <a:ext cx="799560" cy="4273560"/>
            <a:chOff x="2001960" y="1844640"/>
            <a:chExt cx="799560" cy="4273560"/>
          </a:xfrm>
        </p:grpSpPr>
        <p:sp>
          <p:nvSpPr>
            <p:cNvPr id="641" name=""/>
            <p:cNvSpPr/>
            <p:nvPr/>
          </p:nvSpPr>
          <p:spPr>
            <a:xfrm>
              <a:off x="2170800" y="1844640"/>
              <a:ext cx="630720" cy="3800160"/>
            </a:xfrm>
            <a:prstGeom prst="rect">
              <a:avLst/>
            </a:prstGeom>
            <a:solidFill>
              <a:srgbClr val="00cc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01960" y="5690520"/>
              <a:ext cx="691920" cy="427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sin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3" name=""/>
            <p:cNvGraphicFramePr/>
            <p:nvPr/>
          </p:nvGraphicFramePr>
          <p:xfrm>
            <a:off x="2142720" y="5305320"/>
            <a:ext cx="644760" cy="34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2720" y="5305320"/>
                      <a:ext cx="644760" cy="34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5" name=""/>
          <p:cNvGrpSpPr/>
          <p:nvPr/>
        </p:nvGrpSpPr>
        <p:grpSpPr>
          <a:xfrm>
            <a:off x="5165640" y="1844640"/>
            <a:ext cx="803160" cy="4273560"/>
            <a:chOff x="5165640" y="1844640"/>
            <a:chExt cx="803160" cy="4273560"/>
          </a:xfrm>
        </p:grpSpPr>
        <p:sp>
          <p:nvSpPr>
            <p:cNvPr id="646" name=""/>
            <p:cNvSpPr/>
            <p:nvPr/>
          </p:nvSpPr>
          <p:spPr>
            <a:xfrm>
              <a:off x="5338800" y="1844640"/>
              <a:ext cx="630000" cy="3800160"/>
            </a:xfrm>
            <a:prstGeom prst="rect">
              <a:avLst/>
            </a:prstGeom>
            <a:solidFill>
              <a:srgbClr val="ffcc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65640" y="5690520"/>
              <a:ext cx="691200" cy="4276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vid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8" name=""/>
            <p:cNvGraphicFramePr/>
            <p:nvPr/>
          </p:nvGraphicFramePr>
          <p:xfrm>
            <a:off x="5338800" y="5166360"/>
            <a:ext cx="580320" cy="50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8800" y="5166360"/>
                      <a:ext cx="580320" cy="50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0" name=""/>
          <p:cNvGrpSpPr/>
          <p:nvPr/>
        </p:nvGrpSpPr>
        <p:grpSpPr>
          <a:xfrm>
            <a:off x="4116240" y="1844640"/>
            <a:ext cx="776520" cy="4273560"/>
            <a:chOff x="4116240" y="1844640"/>
            <a:chExt cx="776520" cy="4273560"/>
          </a:xfrm>
        </p:grpSpPr>
        <p:sp>
          <p:nvSpPr>
            <p:cNvPr id="651" name=""/>
            <p:cNvSpPr/>
            <p:nvPr/>
          </p:nvSpPr>
          <p:spPr>
            <a:xfrm>
              <a:off x="4262400" y="1844640"/>
              <a:ext cx="630360" cy="3800160"/>
            </a:xfrm>
            <a:prstGeom prst="rect">
              <a:avLst/>
            </a:prstGeom>
            <a:solidFill>
              <a:srgbClr val="0033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16240" y="5690520"/>
              <a:ext cx="684360" cy="427680"/>
            </a:xfrm>
            <a:prstGeom prst="rect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rpri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3" name=""/>
            <p:cNvGraphicFramePr/>
            <p:nvPr/>
          </p:nvGraphicFramePr>
          <p:xfrm>
            <a:off x="4262400" y="4744440"/>
            <a:ext cx="586440" cy="91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2400" y="4744440"/>
                      <a:ext cx="586440" cy="91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5" name=""/>
          <p:cNvGrpSpPr/>
          <p:nvPr/>
        </p:nvGrpSpPr>
        <p:grpSpPr>
          <a:xfrm>
            <a:off x="1011240" y="1844640"/>
            <a:ext cx="828360" cy="4273560"/>
            <a:chOff x="1011240" y="1844640"/>
            <a:chExt cx="828360" cy="4273560"/>
          </a:xfrm>
        </p:grpSpPr>
        <p:sp>
          <p:nvSpPr>
            <p:cNvPr id="656" name=""/>
            <p:cNvSpPr/>
            <p:nvPr/>
          </p:nvSpPr>
          <p:spPr>
            <a:xfrm>
              <a:off x="1164600" y="1844640"/>
              <a:ext cx="631080" cy="3800160"/>
            </a:xfrm>
            <a:prstGeom prst="rect">
              <a:avLst/>
            </a:prstGeom>
            <a:solidFill>
              <a:srgbClr val="ff66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11240" y="5690520"/>
              <a:ext cx="691920" cy="427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u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8" name=""/>
            <p:cNvGraphicFramePr/>
            <p:nvPr/>
          </p:nvGraphicFramePr>
          <p:xfrm>
            <a:off x="1136160" y="5200560"/>
            <a:ext cx="703440" cy="446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36160" y="5200560"/>
                      <a:ext cx="70344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0" name=""/>
          <p:cNvGrpSpPr/>
          <p:nvPr/>
        </p:nvGrpSpPr>
        <p:grpSpPr>
          <a:xfrm>
            <a:off x="7259760" y="1844640"/>
            <a:ext cx="817560" cy="4273560"/>
            <a:chOff x="7259760" y="1844640"/>
            <a:chExt cx="817560" cy="4273560"/>
          </a:xfrm>
        </p:grpSpPr>
        <p:sp>
          <p:nvSpPr>
            <p:cNvPr id="661" name=""/>
            <p:cNvSpPr/>
            <p:nvPr/>
          </p:nvSpPr>
          <p:spPr>
            <a:xfrm>
              <a:off x="7428600" y="1844640"/>
              <a:ext cx="630000" cy="3800160"/>
            </a:xfrm>
            <a:prstGeom prst="rect">
              <a:avLst/>
            </a:prstGeom>
            <a:solidFill>
              <a:srgbClr val="3ea53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59760" y="5690520"/>
              <a:ext cx="817560" cy="427680"/>
            </a:xfrm>
            <a:prstGeom prst="rect">
              <a:avLst/>
            </a:prstGeom>
            <a:solidFill>
              <a:srgbClr val="3ea53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llular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b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fra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" descr=""/>
            <p:cNvPicPr/>
            <p:nvPr/>
          </p:nvPicPr>
          <p:blipFill>
            <a:blip r:embed="rId11"/>
            <a:stretch/>
          </p:blipFill>
          <p:spPr>
            <a:xfrm>
              <a:off x="7556400" y="5131080"/>
              <a:ext cx="371520" cy="51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"/>
          <p:cNvGrpSpPr/>
          <p:nvPr/>
        </p:nvGrpSpPr>
        <p:grpSpPr>
          <a:xfrm>
            <a:off x="6222960" y="1844640"/>
            <a:ext cx="760320" cy="4273560"/>
            <a:chOff x="6222960" y="1844640"/>
            <a:chExt cx="760320" cy="4273560"/>
          </a:xfrm>
        </p:grpSpPr>
        <p:sp>
          <p:nvSpPr>
            <p:cNvPr id="665" name=""/>
            <p:cNvSpPr/>
            <p:nvPr/>
          </p:nvSpPr>
          <p:spPr>
            <a:xfrm>
              <a:off x="6352200" y="1844640"/>
              <a:ext cx="631080" cy="3800160"/>
            </a:xfrm>
            <a:prstGeom prst="rect">
              <a:avLst/>
            </a:prstGeom>
            <a:solidFill>
              <a:srgbClr val="5c80c2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22960" y="5690520"/>
              <a:ext cx="691920" cy="427680"/>
            </a:xfrm>
            <a:prstGeom prst="rect">
              <a:avLst/>
            </a:prstGeom>
            <a:solidFill>
              <a:srgbClr val="85a0d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n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7" name=""/>
            <p:cNvGraphicFramePr/>
            <p:nvPr/>
          </p:nvGraphicFramePr>
          <p:xfrm>
            <a:off x="6417360" y="5001840"/>
            <a:ext cx="505800" cy="684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417360" y="5001840"/>
                      <a:ext cx="50580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9" name=""/>
          <p:cNvSpPr/>
          <p:nvPr/>
        </p:nvSpPr>
        <p:spPr>
          <a:xfrm>
            <a:off x="914400" y="2154240"/>
            <a:ext cx="106056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Zone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2154240"/>
            <a:ext cx="106056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afe@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2916360"/>
            <a:ext cx="208908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48120" y="4059360"/>
            <a:ext cx="20970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n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14800" y="1773360"/>
            <a:ext cx="106056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48120" y="2154240"/>
            <a:ext cx="213336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PN-1 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1773360"/>
            <a:ext cx="1060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Poin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14800" y="2535120"/>
            <a:ext cx="307188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MP Security Management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48120" y="3297240"/>
            <a:ext cx="208908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81480" y="2154240"/>
            <a:ext cx="2048040" cy="38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S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48120" y="3678120"/>
            <a:ext cx="309708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rity Secure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2154240"/>
            <a:ext cx="106056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W-1 G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40360" y="4444920"/>
            <a:ext cx="410364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vider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04920" y="1752480"/>
            <a:ext cx="8568720" cy="4897080"/>
            <a:chOff x="304920" y="1752480"/>
            <a:chExt cx="8568720" cy="4897080"/>
          </a:xfrm>
        </p:grpSpPr>
        <p:sp>
          <p:nvSpPr>
            <p:cNvPr id="683" name=""/>
            <p:cNvSpPr/>
            <p:nvPr/>
          </p:nvSpPr>
          <p:spPr>
            <a:xfrm>
              <a:off x="304920" y="1752480"/>
              <a:ext cx="8568720" cy="489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c1119"/>
                </a:gs>
                <a:gs pos="100000">
                  <a:srgbClr val="5c80c2">
                    <a:alpha val="69019"/>
                  </a:srgbClr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" descr=""/>
            <p:cNvPicPr/>
            <p:nvPr/>
          </p:nvPicPr>
          <p:blipFill>
            <a:blip r:embed="rId14"/>
            <a:stretch/>
          </p:blipFill>
          <p:spPr>
            <a:xfrm>
              <a:off x="3135240" y="2840400"/>
              <a:ext cx="2848320" cy="255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3261-08BC-4E66-ABBB-267A241E23F7}" type="slidenum">
              <a:t>29</a:t>
            </a:fld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3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8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3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8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3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8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3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8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3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8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3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8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3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87400" y="1877400"/>
            <a:ext cx="3013200" cy="29268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Единая архитек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ализованное управл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нтегрированы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Firewall, VPN, Endpoint Secu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artDefense Security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pdate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Защита периметра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92280" y="4910040"/>
            <a:ext cx="3513240" cy="1719000"/>
            <a:chOff x="1592280" y="4910040"/>
            <a:chExt cx="3513240" cy="1719000"/>
          </a:xfrm>
        </p:grpSpPr>
        <p:sp>
          <p:nvSpPr>
            <p:cNvPr id="118" name=""/>
            <p:cNvSpPr/>
            <p:nvPr/>
          </p:nvSpPr>
          <p:spPr>
            <a:xfrm>
              <a:off x="1592280" y="4910040"/>
              <a:ext cx="3513240" cy="1719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User &amp; Small 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oneAl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@Off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Check Point Certified Managed Security Expert Plus VSX"/>
            <p:cNvPicPr/>
            <p:nvPr/>
          </p:nvPicPr>
          <p:blipFill>
            <a:blip r:embed="rId1"/>
            <a:stretch/>
          </p:blipFill>
          <p:spPr>
            <a:xfrm>
              <a:off x="1735200" y="5878440"/>
              <a:ext cx="85752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248200" y="5325840"/>
              <a:ext cx="536400" cy="59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5292720" y="4437000"/>
            <a:ext cx="3556080" cy="1981080"/>
            <a:chOff x="5292720" y="4437000"/>
            <a:chExt cx="3556080" cy="1981080"/>
          </a:xfrm>
        </p:grpSpPr>
        <p:sp>
          <p:nvSpPr>
            <p:cNvPr id="122" name=""/>
            <p:cNvSpPr/>
            <p:nvPr/>
          </p:nvSpPr>
          <p:spPr>
            <a:xfrm>
              <a:off x="5292720" y="4437000"/>
              <a:ext cx="3556080" cy="1981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End &amp; Service Provi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VS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eWall-1 G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rcRect l="0" t="0" r="0" b="30070"/>
            <a:stretch/>
          </p:blipFill>
          <p:spPr>
            <a:xfrm>
              <a:off x="5410440" y="5025960"/>
              <a:ext cx="89208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5956200" y="5232600"/>
              <a:ext cx="538200" cy="85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5410440" y="5714280"/>
              <a:ext cx="969840" cy="64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3622680" y="2085840"/>
            <a:ext cx="5257800" cy="1793880"/>
            <a:chOff x="3622680" y="2085840"/>
            <a:chExt cx="5257800" cy="1793880"/>
          </a:xfrm>
        </p:grpSpPr>
        <p:sp>
          <p:nvSpPr>
            <p:cNvPr id="127" name=""/>
            <p:cNvSpPr/>
            <p:nvPr/>
          </p:nvSpPr>
          <p:spPr>
            <a:xfrm>
              <a:off x="3622680" y="2085840"/>
              <a:ext cx="5257800" cy="1793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&amp; Mid-Size 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U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PN-1 Edge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rcRect l="6668" t="5951" r="6668" b="8927"/>
            <a:stretch/>
          </p:blipFill>
          <p:spPr>
            <a:xfrm>
              <a:off x="6862680" y="3000240"/>
              <a:ext cx="136548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7545240" y="2187720"/>
              <a:ext cx="1262160" cy="7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0" name="" descr=""/>
            <p:cNvPicPr/>
            <p:nvPr/>
          </p:nvPicPr>
          <p:blipFill>
            <a:blip r:embed="rId8"/>
            <a:srcRect l="0" t="567" r="45006" b="0"/>
            <a:stretch/>
          </p:blipFill>
          <p:spPr>
            <a:xfrm>
              <a:off x="8159760" y="2855880"/>
              <a:ext cx="633240" cy="814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7BA3-8BC3-4010-A302-84D8E25D0958}" type="slidenum">
              <a:t>3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623880" y="1676160"/>
            <a:ext cx="3013200" cy="3733560"/>
            <a:chOff x="623880" y="1676160"/>
            <a:chExt cx="3013200" cy="3733560"/>
          </a:xfrm>
        </p:grpSpPr>
        <p:sp>
          <p:nvSpPr>
            <p:cNvPr id="132" name=""/>
            <p:cNvSpPr txBox="1"/>
            <p:nvPr/>
          </p:nvSpPr>
          <p:spPr>
            <a:xfrm>
              <a:off x="623880" y="1824840"/>
              <a:ext cx="3013200" cy="29264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66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230040" indent="-2300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676160"/>
              <a:ext cx="281952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lligent Worm Defender™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гментация на зон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ранти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нспекция сетевых протокол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point security enforc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нтегрированный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MART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езопасность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внутри сети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46160" y="4991040"/>
            <a:ext cx="3513240" cy="1719360"/>
            <a:chOff x="1946160" y="4991040"/>
            <a:chExt cx="3513240" cy="1719360"/>
          </a:xfrm>
        </p:grpSpPr>
        <p:sp>
          <p:nvSpPr>
            <p:cNvPr id="136" name=""/>
            <p:cNvSpPr/>
            <p:nvPr/>
          </p:nvSpPr>
          <p:spPr>
            <a:xfrm>
              <a:off x="1946160" y="4991040"/>
              <a:ext cx="3513240" cy="1719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 Enforc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Point Integ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2220840" y="5815080"/>
              <a:ext cx="167652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125960" y="5738760"/>
              <a:ext cx="1295280" cy="768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4305240" y="4995720"/>
            <a:ext cx="4786200" cy="1719000"/>
            <a:chOff x="4305240" y="4995720"/>
            <a:chExt cx="4786200" cy="1719000"/>
          </a:xfrm>
        </p:grpSpPr>
        <p:sp>
          <p:nvSpPr>
            <p:cNvPr id="140" name=""/>
            <p:cNvSpPr/>
            <p:nvPr/>
          </p:nvSpPr>
          <p:spPr>
            <a:xfrm>
              <a:off x="5578200" y="4995720"/>
              <a:ext cx="3513240" cy="1719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913440" y="5762520"/>
              <a:ext cx="112860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8118360" y="5543280"/>
              <a:ext cx="7491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08440" y="5006880"/>
              <a:ext cx="32004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SEC Partner Appli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Spect on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4305240" y="5924160"/>
              <a:ext cx="289548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3733920" y="1197000"/>
            <a:ext cx="5410080" cy="3375000"/>
            <a:chOff x="3733920" y="1197000"/>
            <a:chExt cx="5410080" cy="3375000"/>
          </a:xfrm>
        </p:grpSpPr>
        <p:grpSp>
          <p:nvGrpSpPr>
            <p:cNvPr id="146" name=""/>
            <p:cNvGrpSpPr/>
            <p:nvPr/>
          </p:nvGrpSpPr>
          <p:grpSpPr>
            <a:xfrm>
              <a:off x="3733920" y="1857240"/>
              <a:ext cx="5257800" cy="2714760"/>
              <a:chOff x="3733920" y="1857240"/>
              <a:chExt cx="5257800" cy="2714760"/>
            </a:xfrm>
          </p:grpSpPr>
          <p:sp>
            <p:nvSpPr>
              <p:cNvPr id="147" name=""/>
              <p:cNvSpPr/>
              <p:nvPr/>
            </p:nvSpPr>
            <p:spPr>
              <a:xfrm>
                <a:off x="3733920" y="1857240"/>
                <a:ext cx="5257800" cy="27147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nal Security Gatew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68840" y="2209680"/>
                <a:ext cx="342900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pec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0, 210N, 410, 610, 610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8480" y="3200400"/>
                <a:ext cx="2895840" cy="83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97840" y="3287880"/>
                <a:ext cx="1676160" cy="1207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50120" y="1981080"/>
                <a:ext cx="1305000" cy="1176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52" name=""/>
            <p:cNvSpPr/>
            <p:nvPr/>
          </p:nvSpPr>
          <p:spPr>
            <a:xfrm>
              <a:off x="3780000" y="1197000"/>
              <a:ext cx="53640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CB40-3AC9-4482-B60D-605820B4C3E6}" type="slidenum">
              <a:t>4</a:t>
            </a:fld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23880" y="1500120"/>
            <a:ext cx="3013200" cy="3733920"/>
            <a:chOff x="623880" y="1500120"/>
            <a:chExt cx="3013200" cy="3733920"/>
          </a:xfrm>
        </p:grpSpPr>
        <p:sp>
          <p:nvSpPr>
            <p:cNvPr id="154" name=""/>
            <p:cNvSpPr txBox="1"/>
            <p:nvPr/>
          </p:nvSpPr>
          <p:spPr>
            <a:xfrm>
              <a:off x="623880" y="1748880"/>
              <a:ext cx="3013200" cy="29268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66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230040" indent="-2300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8640" y="1500120"/>
              <a:ext cx="2819520" cy="37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ure Web-Based Connectivit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grated Endpoint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licious Code Protector 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d Streaming Insp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sy Deployment and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5000"/>
                </a:lnSpc>
                <a:spcBef>
                  <a:spcPts val="337"/>
                </a:spcBef>
                <a:buClr>
                  <a:srgbClr val="000000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езопасность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60640" y="4933800"/>
            <a:ext cx="3513240" cy="1719360"/>
            <a:chOff x="2060640" y="4933800"/>
            <a:chExt cx="3513240" cy="1719360"/>
          </a:xfrm>
        </p:grpSpPr>
        <p:sp>
          <p:nvSpPr>
            <p:cNvPr id="158" name=""/>
            <p:cNvSpPr/>
            <p:nvPr/>
          </p:nvSpPr>
          <p:spPr>
            <a:xfrm>
              <a:off x="2060640" y="4933800"/>
              <a:ext cx="3513240" cy="1719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d Endpoint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 Clientl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2220840" y="6095880"/>
              <a:ext cx="13604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125960" y="5738760"/>
              <a:ext cx="1295280" cy="768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3733920" y="1905120"/>
            <a:ext cx="5257800" cy="2714400"/>
            <a:chOff x="3733920" y="1905120"/>
            <a:chExt cx="5257800" cy="2714400"/>
          </a:xfrm>
        </p:grpSpPr>
        <p:sp>
          <p:nvSpPr>
            <p:cNvPr id="162" name=""/>
            <p:cNvSpPr/>
            <p:nvPr/>
          </p:nvSpPr>
          <p:spPr>
            <a:xfrm>
              <a:off x="3733920" y="1905120"/>
              <a:ext cx="5257800" cy="2714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Security 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68840" y="2257560"/>
              <a:ext cx="362268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, 4000, 6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ra S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SL Network Ext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7238880" y="3171960"/>
              <a:ext cx="1600200" cy="135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65" name=""/>
            <p:cNvGrpSpPr/>
            <p:nvPr/>
          </p:nvGrpSpPr>
          <p:grpSpPr>
            <a:xfrm>
              <a:off x="7162920" y="2046240"/>
              <a:ext cx="1504440" cy="1066680"/>
              <a:chOff x="7162920" y="2046240"/>
              <a:chExt cx="1504440" cy="10666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7867800" y="2309400"/>
                <a:ext cx="799560" cy="750600"/>
                <a:chOff x="7867800" y="2309400"/>
                <a:chExt cx="799560" cy="750600"/>
              </a:xfrm>
            </p:grpSpPr>
            <p:pic>
              <p:nvPicPr>
                <p:cNvPr id="167" name="" descr=""/>
                <p:cNvPicPr/>
                <p:nvPr/>
              </p:nvPicPr>
              <p:blipFill>
                <a:blip r:embed="rId4"/>
                <a:srcRect l="10763" t="10763" r="10763" b="10763"/>
                <a:stretch/>
              </p:blipFill>
              <p:spPr>
                <a:xfrm>
                  <a:off x="7867800" y="2309400"/>
                  <a:ext cx="799560" cy="75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"/>
                <p:cNvSpPr/>
                <p:nvPr/>
              </p:nvSpPr>
              <p:spPr>
                <a:xfrm>
                  <a:off x="7956720" y="2942280"/>
                  <a:ext cx="36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41720" y="2942280"/>
                  <a:ext cx="36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956720" y="2392920"/>
                  <a:ext cx="36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541720" y="2392920"/>
                  <a:ext cx="36360" cy="34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7162920" y="2718000"/>
                <a:ext cx="1178280" cy="394920"/>
              </a:xfrm>
              <a:custGeom>
                <a:avLst/>
                <a:gdLst/>
                <a:ahLst/>
                <a:rect l="l" t="t" r="r" b="b"/>
                <a:pathLst>
                  <a:path w="1375" h="360">
                    <a:moveTo>
                      <a:pt x="462" y="339"/>
                    </a:moveTo>
                    <a:lnTo>
                      <a:pt x="0" y="0"/>
                    </a:lnTo>
                    <a:lnTo>
                      <a:pt x="943" y="50"/>
                    </a:lnTo>
                    <a:lnTo>
                      <a:pt x="1375" y="360"/>
                    </a:lnTo>
                    <a:lnTo>
                      <a:pt x="462" y="3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31200" y="2046240"/>
                <a:ext cx="750240" cy="1005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4" name="" descr=""/>
              <p:cNvPicPr/>
              <p:nvPr/>
            </p:nvPicPr>
            <p:blipFill>
              <a:blip r:embed="rId5"/>
              <a:srcRect l="53079" t="0" r="0" b="0"/>
              <a:stretch/>
            </p:blipFill>
            <p:spPr>
              <a:xfrm>
                <a:off x="7531200" y="2050200"/>
                <a:ext cx="747000" cy="1001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3886200" y="3657600"/>
              <a:ext cx="3124080" cy="90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5638680" y="4952880"/>
            <a:ext cx="3505320" cy="1719360"/>
            <a:chOff x="5638680" y="4952880"/>
            <a:chExt cx="3505320" cy="1719360"/>
          </a:xfrm>
        </p:grpSpPr>
        <p:grpSp>
          <p:nvGrpSpPr>
            <p:cNvPr id="177" name=""/>
            <p:cNvGrpSpPr/>
            <p:nvPr/>
          </p:nvGrpSpPr>
          <p:grpSpPr>
            <a:xfrm>
              <a:off x="5638680" y="4952880"/>
              <a:ext cx="3237120" cy="1719360"/>
              <a:chOff x="5638680" y="4952880"/>
              <a:chExt cx="3237120" cy="1719360"/>
            </a:xfrm>
          </p:grpSpPr>
          <p:sp>
            <p:nvSpPr>
              <p:cNvPr id="178" name=""/>
              <p:cNvSpPr/>
              <p:nvPr/>
            </p:nvSpPr>
            <p:spPr>
              <a:xfrm>
                <a:off x="5638680" y="4952880"/>
                <a:ext cx="3237120" cy="1719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81680" y="5638680"/>
                <a:ext cx="1067040" cy="952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80" name=""/>
            <p:cNvSpPr/>
            <p:nvPr/>
          </p:nvSpPr>
          <p:spPr>
            <a:xfrm>
              <a:off x="5943600" y="51055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Intelligen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3495-632F-4A9B-B4CE-017B7A97DAFC}" type="slidenum">
              <a:t>5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шени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Check Point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ля предотвращения атак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280" y="1650960"/>
          <a:ext cx="8915400" cy="5054400"/>
        </p:xfrm>
        <a:graphic>
          <a:graphicData uri="http://schemas.openxmlformats.org/drawingml/2006/table">
            <a:tbl>
              <a:tblPr/>
              <a:tblGrid>
                <a:gridCol w="2743200"/>
                <a:gridCol w="6172200"/>
              </a:tblGrid>
              <a:tr h="50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PN-1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PN-1 UT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PN-1 Edge UT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PN-1 VS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Firew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PN-1 Secure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nec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ffffff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Def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c80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имущества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eck Po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4c80c2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новации, которым доверя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37"/>
                        </a:spcBef>
                        <a:buClr>
                          <a:srgbClr val="4c80c2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ful Inspection &amp; Application Intellig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37"/>
                        </a:spcBef>
                        <a:buClr>
                          <a:srgbClr val="4c80c2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ет о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%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к и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ANS Top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4c80c2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Defense 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тегрированная система предотвращения ат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37"/>
                        </a:spcBef>
                        <a:buClr>
                          <a:srgbClr val="4c80c2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чайший уровень защ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37"/>
                        </a:spcBef>
                        <a:buClr>
                          <a:srgbClr val="4c80c2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ает затраты (не требует отдельного устройст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4c80c2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циональная интегрированная защи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в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4c80c2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лепная масштабируемость от удаленных пользователей до глобальных Ц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37"/>
                        </a:spcBef>
                        <a:buClr>
                          <a:srgbClr val="4c80c2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изованное управление политиками (как офисов, так и пользовате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5EF8-1348-4286-B379-3949890E5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Point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мировой лиде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4838760"/>
            <a:ext cx="35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a538"/>
                </a:solidFill>
                <a:latin typeface="Arial"/>
                <a:ea typeface="Arial"/>
              </a:rPr>
              <a:t>Мировой лидер</a:t>
            </a:r>
            <a:r>
              <a:rPr b="1" lang="en-US" sz="2000" spc="-1" strike="noStrike">
                <a:solidFill>
                  <a:srgbClr val="3ea538"/>
                </a:solidFill>
                <a:latin typeface="Arial"/>
                <a:ea typeface="Arial"/>
              </a:rPr>
              <a:t> FW/VP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a538"/>
                </a:solidFill>
                <a:latin typeface="Arial"/>
                <a:ea typeface="Arial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5854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st and Sulliva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02200" y="1536840"/>
            <a:ext cx="457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% of the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100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8% of the                500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00,000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азчиков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ано свыш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5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ллион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Zone Ala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60,000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сталляций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всему мир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5880" y="2567160"/>
            <a:ext cx="1295640" cy="226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86680" y="1689120"/>
            <a:ext cx="1295280" cy="22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-317520" y="1407960"/>
          <a:ext cx="4957920" cy="3394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17520" y="1407960"/>
                    <a:ext cx="49579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286000" y="1973160"/>
            <a:ext cx="117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eck Point 3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8320" y="2090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s 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6920" y="3605040"/>
            <a:ext cx="10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sco 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9869600">
            <a:off x="813240" y="34142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niper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7FB5-3B4C-49AD-94C8-51978522FA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то использует решения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eck Poi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% of the Fortune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% of the Global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7% of the Fortune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5% of the Global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1% of the Fortune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buClr>
                <a:srgbClr val="4c80c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% of the Global 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162920" y="3048120"/>
            <a:ext cx="1571400" cy="1541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1338120" cy="14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3A1F-D93B-47E6-906A-47742C229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112680"/>
            <a:ext cx="6705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Воздействие на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1828800"/>
            <a:ext cx="2590200" cy="4114800"/>
            <a:chOff x="304920" y="1828800"/>
            <a:chExt cx="2590200" cy="4114800"/>
          </a:xfrm>
        </p:grpSpPr>
        <p:sp>
          <p:nvSpPr>
            <p:cNvPr id="202" name=""/>
            <p:cNvSpPr/>
            <p:nvPr/>
          </p:nvSpPr>
          <p:spPr>
            <a:xfrm>
              <a:off x="304920" y="1828800"/>
              <a:ext cx="2590200" cy="4114800"/>
            </a:xfrm>
            <a:prstGeom prst="rect">
              <a:avLst/>
            </a:prstGeom>
            <a:gradFill rotWithShape="0">
              <a:gsLst>
                <a:gs pos="0">
                  <a:srgbClr val="3ea538"/>
                </a:gs>
                <a:gs pos="50000">
                  <a:srgbClr val="b3e5b1"/>
                </a:gs>
                <a:gs pos="100000">
                  <a:srgbClr val="3ea538"/>
                </a:gs>
              </a:gsLst>
              <a:lin ang="13500000"/>
            </a:gradFill>
            <a:ln w="28440">
              <a:solidFill>
                <a:srgbClr val="3ea5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080" y="1905120"/>
              <a:ext cx="2423880" cy="1295280"/>
            </a:xfrm>
            <a:prstGeom prst="rect">
              <a:avLst/>
            </a:prstGeom>
            <a:solidFill>
              <a:srgbClr val="3ea53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ост риск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080" y="3276720"/>
              <a:ext cx="242388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тиворечивые политики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актуальная защит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вые, неразвитые технолог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95480" y="1828800"/>
            <a:ext cx="2895480" cy="4114800"/>
            <a:chOff x="2895480" y="1828800"/>
            <a:chExt cx="2895480" cy="4114800"/>
          </a:xfrm>
        </p:grpSpPr>
        <p:sp>
          <p:nvSpPr>
            <p:cNvPr id="206" name=""/>
            <p:cNvSpPr/>
            <p:nvPr/>
          </p:nvSpPr>
          <p:spPr>
            <a:xfrm>
              <a:off x="2895480" y="1828800"/>
              <a:ext cx="2895480" cy="41148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cba7"/>
                </a:gs>
                <a:gs pos="100000">
                  <a:srgbClr val="ff6600"/>
                </a:gs>
              </a:gsLst>
              <a:lin ang="135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88360" y="1905120"/>
              <a:ext cx="2709360" cy="12952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ыше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екущие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88360" y="3276720"/>
              <a:ext cx="2709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ст штатов по управлению безопасность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роже обуч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роже постав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791320" y="1828800"/>
            <a:ext cx="3047400" cy="4114800"/>
            <a:chOff x="5791320" y="1828800"/>
            <a:chExt cx="3047400" cy="4114800"/>
          </a:xfrm>
        </p:grpSpPr>
        <p:sp>
          <p:nvSpPr>
            <p:cNvPr id="210" name=""/>
            <p:cNvSpPr/>
            <p:nvPr/>
          </p:nvSpPr>
          <p:spPr>
            <a:xfrm>
              <a:off x="5791320" y="1828800"/>
              <a:ext cx="3047400" cy="4114800"/>
            </a:xfrm>
            <a:prstGeom prst="rect">
              <a:avLst/>
            </a:prstGeom>
            <a:gradFill rotWithShape="0">
              <a:gsLst>
                <a:gs pos="0">
                  <a:srgbClr val="5c80c2"/>
                </a:gs>
                <a:gs pos="50000">
                  <a:srgbClr val="d2dcee"/>
                </a:gs>
                <a:gs pos="100000">
                  <a:srgbClr val="5c80c2"/>
                </a:gs>
              </a:gsLst>
              <a:lin ang="13500000"/>
            </a:gradFill>
            <a:ln w="28440">
              <a:solidFill>
                <a:srgbClr val="5c80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9240" y="1905120"/>
              <a:ext cx="2851560" cy="1295280"/>
            </a:xfrm>
            <a:prstGeom prst="rect">
              <a:avLst/>
            </a:prstGeom>
            <a:solidFill>
              <a:srgbClr val="5c80c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Больше 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бований к 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оизводительнос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89240" y="3276720"/>
              <a:ext cx="28515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ольше пользовател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ольше приложени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1125"/>
                </a:spcBef>
                <a:buClr>
                  <a:srgbClr val="5c80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лубже уровень анализа для безопас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5DCC-21C8-442F-BC95-78C182B534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21:00Z</dcterms:created>
  <dc:creator>Anton Razumov</dc:creator>
  <dc:description>Екатеринбург (40)</dc:description>
  <dc:language>en-US</dc:language>
  <cp:lastModifiedBy>Alexandr Stoljarov</cp:lastModifiedBy>
  <cp:lastPrinted>2002-07-02T05:27:54Z</cp:lastPrinted>
  <dcterms:modified xsi:type="dcterms:W3CDTF">2006-08-21T06:37:31Z</dcterms:modified>
  <cp:revision>140</cp:revision>
  <dc:subject/>
  <dc:title>Комплексный подход</dc:title>
</cp:coreProperties>
</file>